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18.jpeg" ContentType="image/jpeg"/>
  <Override PartName="/ppt/media/image17.jpeg" ContentType="image/jpeg"/>
  <Override PartName="/ppt/media/image14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EE2-9992-45E6-B3B6-BFFF4A13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F28-27A0-491E-879E-CA301ECE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8DE-FE62-4E62-90BB-4E1188F1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B7E-7626-46B7-B540-183079A6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1E5-BA87-4282-BD83-F59C60B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B3E-306C-4472-90D9-232505C0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67B-EACB-4424-8482-B2EF8496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AF3-5C1E-4289-8AD5-EDA3E960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35D-5948-42A5-A239-7AE86764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898-CE5E-49CB-9794-2132CFA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1AD-659E-44CC-A48F-04E9E96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765-3C59-40D9-867D-E236B051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C5AD-B92D-4A6D-89CF-E0333C7E93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mailto:Afshar18@gmail.co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fshar18@gmail.co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fshar18@gmail.com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fshar18@gmail.co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fshar18@gmail.co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fshar18@gmail.co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fshar18@gmail.co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fshar18@gmail.com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fshar18@gmail.co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hyperlink" Target="mailto:Afshar18@gmail.com" TargetMode="Externa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hyperlink" Target="mailto:Afshar18@gmail.co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907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میت و کاربرد</a:t>
            </a: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ایکوتوکسین بایندر</a:t>
            </a: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صنعت دامپروری</a:t>
            </a:r>
            <a:br>
              <a:rPr sz="6000"/>
            </a:b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دکتر افشاری نیک</a:t>
            </a:r>
            <a:br>
              <a:rPr sz="32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Afshar18@gmail.com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2004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372360" cy="939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78520" y="126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8520" y="126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990000"/>
                </a:solidFill>
                <a:latin typeface="Arial"/>
              </a:rPr>
              <a:t>روش های کشف مایکوتوکسی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44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- نمونه گیری از دان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رم نمونه از انبار غ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- استخراج سم بوسیله حلال مناسب قطبی (متانل ، استونیترول</a:t>
            </a:r>
            <a:r>
              <a:rPr b="0" lang="fa-IR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lean – up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 یا پاک ساز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- ابزارهای آنالیز و کشف توکسی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راماتوگرافی لایه ضخیم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C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راماتوگرافی مایع همراه با اسپکتروفوتومتری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راماتوگرافی گازی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990000"/>
                </a:solidFill>
                <a:latin typeface="Arial"/>
              </a:rPr>
              <a:t>کاهش آلودگی به مایکوتوکسی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re- Har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ost- har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3240360" cy="2578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-harv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ز مهمترین روش های کاهش آلودگی به مایکوتوکسی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استراتژی کاهش مایکوتوکسین شام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6699"/>
                </a:solidFill>
                <a:latin typeface="Arial"/>
              </a:rPr>
              <a:t>راه سنت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زمان جمع اوری مح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قارچ رقابتی غیر توکسی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آبیاری گیاهان: ت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% آفلاتوکسین را کاهش می ده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کاهش آسیب حش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راه مدر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ذر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(Bacillus thurigiensis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تولید پروتئین کشنده حش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ذرتی که ب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قاوم است  : ذرت حاوی ژنی است                         که قارچ از ذرت استفاده نمی ک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ost- har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شد قارچ زمانی است که : محصول آسیاب شود، ساقه ها و دانه ها شکسته شود، دانه ها باهم مخلوط شود ، انبار ش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Arial"/>
              </a:rPr>
              <a:t>می توان رشد قارچ را کاهش داد اگ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- پایین بردن رطوبت بعد از جمع آوری محصول با خشک کردن سری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- پلت کرد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- روش های فیزیک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ست کر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4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- سم زدایی شیمیای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حلول یا بخار آمونیاک موثر رو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B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در حضور آمونیاک ب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غیر سم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زن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) : کاه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 , DON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، از مشکلات : نیمه عمر فقط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دقیق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مانعت کننده رشد قارچ مثل سولفات مس ، اسید آلی و نمک اسید آلی ،              مشکلات  هزینه با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- افزودنی های غذایی  مثل مایکوتوکسین بایندر 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0000"/>
                </a:solidFill>
                <a:latin typeface="Arial"/>
              </a:rPr>
              <a:t>مایکوتوکسین بایندرها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22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و دسته بزر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fa-IR" sz="3200" spc="-1" strike="noStrike">
                <a:solidFill>
                  <a:srgbClr val="006699"/>
                </a:solidFill>
                <a:latin typeface="Arial"/>
              </a:rPr>
              <a:t>- عوامل جذب مایکوتوکسی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لا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y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) (شن) طبیعی  (غیر ارگانی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خمرها(ارگانیک یا آل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fa-IR" sz="3200" spc="-1" strike="noStrike">
                <a:solidFill>
                  <a:srgbClr val="006699"/>
                </a:solidFill>
                <a:latin typeface="Arial"/>
              </a:rPr>
              <a:t>- عوامل تغییر شکل دان مایکوتوکسین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ansform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ل میکرو ارگانیسم ها که حاوی آنزیم است و                              تولید ترکیب غیر سمی می ک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Arial"/>
              </a:rPr>
              <a:t>مایکوتوکسین بایندرها</a:t>
            </a:r>
            <a:br>
              <a:rPr sz="4000"/>
            </a:br>
            <a:r>
              <a:rPr b="1" lang="fa-IR" sz="3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fa-IR" sz="3200" spc="-1" strike="noStrike">
                <a:solidFill>
                  <a:srgbClr val="006699"/>
                </a:solidFill>
                <a:latin typeface="Arial"/>
              </a:rPr>
              <a:t>- عوامل جذب کننده مایکوتوکسین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تصال به مایکوتوکسین در مسیر روده – معده و ایجاد ترکیب پایدا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لای ها  شامل سیلیکات ها مثل آلومینوسیلیکات که بزرگترین مواد جذب کننده هستن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00"/>
                </a:solidFill>
                <a:latin typeface="Arial"/>
              </a:rPr>
              <a:t>از انواع الومینوسیلیکات  شام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نتونی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زئولی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morillo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Arial"/>
              </a:rPr>
              <a:t>مکانیسم اثر</a:t>
            </a:r>
            <a:r>
              <a:rPr b="0" lang="fa-IR" sz="28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لومینوسیلیکات شام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O4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(خنثی) و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4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( بار منفی) ؛ جذب در مسیر روده – معده                    بخصوص افلاتوکسین قطب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Arial"/>
              </a:rPr>
              <a:t>بنتونی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یون قابل معاوضه سدیم؛ پتاسیم ، کلسیم و منیزی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ساختار لایه ای کریستاله باعث جذب مولکول ها می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در صنایع طیور  باعث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فزایش ر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فزایش جذب مواد غذای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فزایش اندازه تخم مر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فزایش کیفیت پوسته تخم مر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Montmorill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کلای سیسیلی لایه ای ، موثر رو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 B1, 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جذب توکسین از طریق سطح و فضاهای بین لایه ای  ، جابجایی کاتیون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HS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فیلوسیلیکات، حاوی بار + ، خاصیت بالای جذب افلاتوکسی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مانند اسفنج ، جمع آوری توکسین در مسیر معده- رو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ضعیف در جذب سایر مایکوتوکسین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Arial"/>
              </a:rPr>
              <a:t>مایکوتوکسین بایندرها</a:t>
            </a:r>
            <a:br>
              <a:rPr sz="2400"/>
            </a:b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- عوامل جذب کننده مایکوتوکسین(غیر ارگانیک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Arial"/>
              </a:rPr>
              <a:t>مایکوتوکسین بایندرها</a:t>
            </a:r>
            <a:br>
              <a:rPr sz="2400"/>
            </a:b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06699"/>
                </a:solidFill>
                <a:latin typeface="Arial"/>
              </a:rPr>
              <a:t>- عوامل جذب کننده مایکوتوکسین(ارگانی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400" y="1628640"/>
            <a:ext cx="898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cc"/>
                </a:solidFill>
                <a:latin typeface="Arial"/>
              </a:rPr>
              <a:t>مخمر و دیواره مخم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تصال سریع به توکسین بخصو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,OCH,Z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یواره مخمر حاوی پلی ساکارید ، چربی و پروتئین است                                در نتیجه قابلیت جذب بهتری نسبت به مخمر کامل د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تصال با واسطه باند هیدروژنی و یا تبادل یونی و آ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 glucan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: 5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% وزن دیواره سلولی 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ابلیت جذب بسیار با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00"/>
                </a:solidFill>
                <a:latin typeface="Arial"/>
              </a:rPr>
              <a:t>مخمر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richosporon  mycotoxinivor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ادر به شکاف داد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و تبدیل آن ب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M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یژگی مخمر شامل : تخمیر ، غلیظ شدن ، انجماد خش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2085840" cy="278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Arial"/>
              </a:rPr>
              <a:t>مایکوتوکسین بایندرها</a:t>
            </a:r>
            <a:br>
              <a:rPr sz="2400"/>
            </a:b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- عوامل تغییر شکل دادن مایکوتوکسین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ransforming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)</a:t>
            </a:r>
            <a:r>
              <a:rPr b="1" lang="fa-IR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00"/>
                </a:solidFill>
                <a:latin typeface="Arial"/>
              </a:rPr>
              <a:t>انزیم های باکتریای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رشح توسط میکروارگانیسم های باکتریای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غییر شکل زیستی توکسی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اثیر مستقیم رو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,DON,OCH,ZEA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، تغییر شکل ساختار حلقو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کتری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bcter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BSH797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موثر رو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تبدیل ب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غیر سم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00"/>
                </a:solidFill>
                <a:latin typeface="Arial"/>
              </a:rPr>
              <a:t>سایر آنزیم ه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روتئ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ربوکسی پپتید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لاکتوهیدرولی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00"/>
                </a:solidFill>
                <a:latin typeface="Arial"/>
              </a:rPr>
              <a:t>بعضی قارچ ها حاوی انزیم تخریب کنند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ارچ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ocladium roseum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حلق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A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ا ت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% باز می ک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3" descr=""/>
          <p:cNvPicPr/>
          <p:nvPr/>
        </p:nvPicPr>
        <p:blipFill>
          <a:blip r:embed="rId2"/>
          <a:srcRect l="13444" t="41502" r="-25293" b="-12829"/>
          <a:stretch/>
        </p:blipFill>
        <p:spPr>
          <a:xfrm>
            <a:off x="-684360" y="3789360"/>
            <a:ext cx="4897440" cy="204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271440" y="147600"/>
            <a:ext cx="86011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a-IR" sz="4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000"/>
            </a:br>
            <a:r>
              <a:rPr b="0" lang="fa-IR" sz="4000" spc="-1" strike="noStrike">
                <a:solidFill>
                  <a:srgbClr val="990000"/>
                </a:solidFill>
                <a:latin typeface="Arial"/>
              </a:rPr>
              <a:t>مایکوتوکسین ها چه هستند؟</a:t>
            </a:r>
            <a:br>
              <a:rPr sz="4000"/>
            </a:br>
            <a:r>
              <a:rPr b="0" lang="fa-IR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تابولیت های ثانیویه رشد قارچ </a:t>
            </a:r>
            <a:br>
              <a:rPr sz="2800"/>
            </a:b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*همه قارچ ها توکسین تولید می کنند ولی جنس های زیر توکسین بیشتری تولید می کنند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5200" y="250488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rgillus s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sarium s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cillium s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viceps s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ria s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یش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نوع 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0000"/>
                </a:solidFill>
                <a:latin typeface="Arial"/>
              </a:rPr>
              <a:t>آلودگی مایکوتوکسینی درمان نمی شود                      و فقط می توان از تولید آن جلوگیری ک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1863720" cy="252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260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br>
              <a:rPr sz="40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ycotoxin b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حصول شرک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ad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بلژی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قابل افزودن به خوراک دام ، طیور و آبزی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نج میکانیسم منحصر به ف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خنثی کردن اثرات سوء تمام مایکوتوکسین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فعال د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وسی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جذب سموم در دوزهای پایی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غیر فعال کردن سموم و سپس دفع آ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66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990000"/>
                </a:solidFill>
                <a:uFillTx/>
                <a:latin typeface="Arial"/>
              </a:rPr>
              <a:t>مایکوتوکسین قطب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انن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,OCH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دارای بار الکتریکی بوده و به طریق مکانیسم کلای ، تغییر شکل یافته و خنثی می ش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br>
              <a:rPr sz="40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ycotoxin binder</a:t>
            </a:r>
            <a:br>
              <a:rPr sz="3200"/>
            </a:br>
            <a:r>
              <a:rPr b="1" lang="fa-IR" sz="2400" spc="-1" strike="noStrike">
                <a:solidFill>
                  <a:srgbClr val="006600"/>
                </a:solidFill>
                <a:latin typeface="Arial"/>
              </a:rPr>
              <a:t>توکسی نیل پلاس به روش های زیر مایکوتوکسین ها را خنثی می ک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44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990000"/>
                </a:solidFill>
                <a:uFillTx/>
                <a:latin typeface="Arial"/>
              </a:rPr>
              <a:t>مایکوتوکسین های غیر قطب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انن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,DON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ا از دو طریق غیر فعال می کن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بیوترانسفورماسیو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مکانیسم دیواره مخمر جذب و دفع می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br>
              <a:rPr sz="40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ycotoxin binder</a:t>
            </a:r>
            <a:br>
              <a:rPr sz="3200"/>
            </a:br>
            <a:r>
              <a:rPr b="1" lang="fa-IR" sz="2400" spc="-1" strike="noStrike">
                <a:solidFill>
                  <a:srgbClr val="006600"/>
                </a:solidFill>
                <a:latin typeface="Arial"/>
              </a:rPr>
              <a:t>توکسی نیل پلاس به روش های زیر مایکوتوکسین ها را خنثی می ک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44720" cy="620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721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3"/>
          <a:stretch/>
        </p:blipFill>
        <p:spPr>
          <a:xfrm>
            <a:off x="0" y="673200"/>
            <a:ext cx="914400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br>
              <a:rPr sz="40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ycotoxin b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00"/>
                </a:solidFill>
                <a:latin typeface="Arial"/>
              </a:rPr>
              <a:t>مکمل موجود در توکسی پلاس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تنظیم کننده سیستم ایمنی است در نتیج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تقویت سیستم ایمنی باعث حذف مایکوتوکسین هایی مثل افلاتوکسین می ش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تقویت سیستم ایمنی  پاسخ مناسبی به واکسیناسیون می ده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مواجهه و مقابله حیوان با استرس مثل شوک گرمایی را بالا می ب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●بدلیل وجود تعدادی </a:t>
            </a:r>
            <a:r>
              <a:rPr b="1" lang="fa-IR" sz="2400" spc="-1" strike="noStrike" u="sng">
                <a:solidFill>
                  <a:srgbClr val="006600"/>
                </a:solidFill>
                <a:uFillTx/>
                <a:latin typeface="Arial"/>
              </a:rPr>
              <a:t>اسید آل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ز رشد                                                                                      احتمالی قارچ ها و کپک ها جلوگیری می ک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44720" cy="620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br>
              <a:rPr sz="40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ycotoxin binder</a:t>
            </a:r>
            <a:br>
              <a:rPr sz="3200"/>
            </a:br>
            <a:br>
              <a:rPr sz="3200"/>
            </a:br>
            <a:r>
              <a:rPr b="1" lang="fa-IR" sz="2800" spc="-1" strike="noStrike">
                <a:solidFill>
                  <a:srgbClr val="006600"/>
                </a:solidFill>
                <a:latin typeface="Arial"/>
              </a:rPr>
              <a:t>توکسی نیل پلاس در موارد زیر تاثیر گذار می باشد</a:t>
            </a:r>
            <a:r>
              <a:rPr b="1" lang="fa-IR" sz="2800" spc="-1" strike="noStrike">
                <a:solidFill>
                  <a:srgbClr val="0066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قابلیت استفاده در پلت و افزایش ماندگاری و بهبود راندمان خورا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فزایش خوراک مصرفی د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اهش چشمگیر مشکلات تولید مثل و سقط جن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جلوگیری از تجمع مایکوتوکسین ها در بافت بخصوص کب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فزایش فعالیت سیستم ایمن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فزایش کارایی دستگاه گوارش، بهبود عملکرد ویتامین ها، بدلیل جلوگیری از تولید رادیکال آزاد توسط مایکوتوکس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پاسخ بهتر حیوان به واکسیناسی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پیشگیری از ورود سم به محصولات دامی و طی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فزایش سلامتی دام و طی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1944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br>
              <a:rPr sz="40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ycotoxin b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44720" cy="620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52200" y="591192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1628640"/>
          <a:ext cx="8686800" cy="4176720"/>
        </p:xfrm>
        <a:graphic>
          <a:graphicData uri="http://schemas.openxmlformats.org/drawingml/2006/table">
            <a:tbl>
              <a:tblPr/>
              <a:tblGrid>
                <a:gridCol w="2171880"/>
                <a:gridCol w="2447640"/>
                <a:gridCol w="1895760"/>
                <a:gridCol w="217152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آلودگی شدی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آلودگی 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پیشگیر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حدود مص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5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0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ف روزانه به ازای هر راس تلیسه ابستن، گاو شیری ، پرواری ،اس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گرم در ت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گرم در ت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م در ت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ی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گرم در ت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گرم در ت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م در ت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بزیان محلول در آب ، مخلوط با خورا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br>
              <a:rPr sz="40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ycotoxin b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Arial"/>
              </a:rPr>
              <a:t>شکل ظاهر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:  پودر یکنواخت، روان و بدون کلوخ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Arial"/>
              </a:rPr>
              <a:t>رنگ 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      : قهوه ای روش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Arial"/>
              </a:rPr>
              <a:t>پروتئین  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  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% حداق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Arial"/>
              </a:rPr>
              <a:t>بسته بند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   : کیسه ه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یلوگرمی – کاغذ چند لایه با است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Arial"/>
              </a:rPr>
              <a:t>ماندگار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   : دوسال در جای خشک و خن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44720" cy="620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52200" y="591192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trol of Mycotoxins as essential factor in animal health and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7640" y="5227920"/>
            <a:ext cx="75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/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en Schwarzer Monique Baecke Nutriad Belgium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a-IR" sz="3600" spc="-1" strike="noStrike">
                <a:solidFill>
                  <a:srgbClr val="990000"/>
                </a:solidFill>
                <a:latin typeface="Arial"/>
              </a:rPr>
              <a:t>معمولترین مایکوتوکسین ها شام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latoxin 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F B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hratoxin A (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aralenone (Z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oxynivalenol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, Vomitox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-2 and HF-2 To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monisins ( F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9" descr=""/>
          <p:cNvPicPr/>
          <p:nvPr/>
        </p:nvPicPr>
        <p:blipFill>
          <a:blip r:embed="rId2"/>
          <a:srcRect l="274" t="30803" r="-36395" b="-11556"/>
          <a:stretch/>
        </p:blipFill>
        <p:spPr>
          <a:xfrm>
            <a:off x="0" y="1359000"/>
            <a:ext cx="3059280" cy="149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"/>
          <p:cNvPicPr/>
          <p:nvPr/>
        </p:nvPicPr>
        <p:blipFill>
          <a:blip r:embed="rId3"/>
          <a:srcRect l="-12838" t="23531" r="28233" b="40395"/>
          <a:stretch/>
        </p:blipFill>
        <p:spPr>
          <a:xfrm>
            <a:off x="0" y="2781360"/>
            <a:ext cx="3816360" cy="17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"/>
          <p:cNvPicPr/>
          <p:nvPr/>
        </p:nvPicPr>
        <p:blipFill>
          <a:blip r:embed="rId4"/>
          <a:srcRect l="-13164" t="41079" r="26413" b="-4047"/>
          <a:stretch/>
        </p:blipFill>
        <p:spPr>
          <a:xfrm>
            <a:off x="2916360" y="4786200"/>
            <a:ext cx="4114800" cy="207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066160" cy="3756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1200" y="5300280"/>
            <a:ext cx="863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idual mycotoxin concentrations in the liver of birds fed with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2, OTA and FUM contaminated diets supplemented with 0 or 1 kg/ton UN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561440" cy="423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0280" y="5372640"/>
            <a:ext cx="836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erage body weight of broilers at 21 days of 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irds receiving Aflatoxin and fumonisin contaminated diets t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 0 % (Control), 0.15 %, 0.25 % and 0.50 % UNIKE®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5834160" cy="3851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10440" y="5588640"/>
            <a:ext cx="87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ative liver weight of broilers at 21 days of 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irds receiving Aflatoxin and fumonisin contaminated diets treated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 0 % (Control),0.15 %, 0.25 % and 0.50 % UNIKE®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560" y="537336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vers of broilers at 21 days of 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rds receiving Aflatoxin and fumonisin contaminated diets t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th 0 % (Control), 0.15 %, 0.25 % and 0.50 % UNIKE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8375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anine amino transferase (ALT) liver enzyme is an indication of hepato-cellular damage. The presence of mycotoxins in the diet has clearly an impact on the pigs .The diet inclusion of UNIKE® in contaminated feed prevented the liver cells from being dam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905800" cy="3971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39640" y="5876280"/>
            <a:ext cx="81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anine amino transferase enzyme level of the pigs receiving control 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 contaminated diet with 0 or 1.5 kg/ton UNIK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19280" y="907920"/>
            <a:ext cx="5977080" cy="4734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6760" y="5733720"/>
            <a:ext cx="84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 weight at  35 days of the birds fed with mycotoxic free diet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hratoxin A at 0.41 ppm, T2-toxin and fumonisin B1contaminated die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 or 1 kg/ton UNIKE ®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UNIKE®PLUS / TOXY-NIL®</a:t>
            </a: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fa-IR" sz="5400" spc="-1" strike="noStrike">
                <a:solidFill>
                  <a:srgbClr val="9900cc"/>
                </a:solidFill>
                <a:latin typeface="Arial"/>
              </a:rPr>
              <a:t>موفق باشید</a:t>
            </a:r>
            <a:br>
              <a:rPr sz="5400"/>
            </a:br>
            <a:br>
              <a:rPr sz="5400"/>
            </a:b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کتر افشاری نیک</a:t>
            </a:r>
            <a:r>
              <a:rPr b="0" lang="fa-IR" sz="4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fshar18@gmail.co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Arial"/>
              </a:rPr>
              <a:t>مایکوتوکسین های اساسی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flatoxin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1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 :  زیر نور فلوروسنس </a:t>
            </a:r>
            <a:r>
              <a:rPr b="1" lang="fa-IR" sz="1800" spc="-1" strike="noStrike">
                <a:solidFill>
                  <a:srgbClr val="006699"/>
                </a:solidFill>
                <a:latin typeface="Arial"/>
              </a:rPr>
              <a:t>آب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1  , G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: زیر نور فلوروسنس </a:t>
            </a:r>
            <a:r>
              <a:rPr b="1" lang="fa-IR" sz="1800" spc="-1" strike="noStrike">
                <a:solidFill>
                  <a:srgbClr val="006600"/>
                </a:solidFill>
                <a:latin typeface="Arial"/>
              </a:rPr>
              <a:t>سب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, M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 : در بافت حیوان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رشد قارچ در دو فاز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در حین نگهداری محصول و رسیدن آ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نگهداری مح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شرایط رشد قارچ و تولید توکسی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رطوبت هسته بی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 درجه حرارت محیط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و رطوبت بیشتر از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آسیب شناسی سم</a:t>
            </a:r>
            <a:r>
              <a:rPr b="0" lang="fa-IR" sz="2400" spc="-1" strike="noStrike" baseline="-25000">
                <a:solidFill>
                  <a:srgbClr val="000000"/>
                </a:solidFill>
                <a:latin typeface="Arial"/>
              </a:rPr>
              <a:t>  :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جذب در روده و ورود به خون و کبد و تولی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, M2</a:t>
            </a:r>
            <a:r>
              <a:rPr b="0" lang="fa-IR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 ظهور در شیر و گوشت و تخم مر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اثرات مسمومیت با 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اهش رش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سیب کب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وفق سیستم ایم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خاصیت سرطان زای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9" descr=""/>
          <p:cNvPicPr/>
          <p:nvPr/>
        </p:nvPicPr>
        <p:blipFill>
          <a:blip r:embed="rId2"/>
          <a:srcRect l="274" t="30803" r="-36395" b="-11556"/>
          <a:stretch/>
        </p:blipFill>
        <p:spPr>
          <a:xfrm>
            <a:off x="1403280" y="3957480"/>
            <a:ext cx="5940360" cy="2900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990000"/>
                </a:solidFill>
                <a:latin typeface="Arial"/>
              </a:rPr>
              <a:t>مایکوتوکسین های اساسی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oxyniralenol (D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امل ترشح  گونه فوزاری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شرایط تولید قار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جه حرارت س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رطوبت با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مکانیسم اثر 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رود سم به اپتلیال روده و اختلال در سنتز پروتئی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اثرات سم در ب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لوک سیستم ایمنی از طریق مرگ سلولی تیموس ، مغز قرمز استخوان و غدد لنفاو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اهش جذب ماده غذایی به علت ترشح سروتونین و کاهش وز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9" descr=""/>
          <p:cNvPicPr/>
          <p:nvPr/>
        </p:nvPicPr>
        <p:blipFill>
          <a:blip r:embed="rId2"/>
          <a:srcRect l="-13164" t="41079" r="26413" b="-4047"/>
          <a:stretch/>
        </p:blipFill>
        <p:spPr>
          <a:xfrm>
            <a:off x="-1044720" y="836640"/>
            <a:ext cx="6264360" cy="3154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a-IR" sz="2800" spc="-1" strike="noStrike">
                <a:solidFill>
                  <a:srgbClr val="990000"/>
                </a:solidFill>
                <a:latin typeface="Arial"/>
              </a:rPr>
              <a:t>مایکوتوکسین های اساسی</a:t>
            </a:r>
            <a:br>
              <a:rPr sz="24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umonisin(F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سم نوع عمده دار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1 , B2, B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سمی ترین نو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عامل ترشح               </a:t>
            </a:r>
            <a:r>
              <a:rPr b="0" lang="fa-IR" sz="2400" spc="-1" strike="noStrike">
                <a:solidFill>
                  <a:srgbClr val="006600"/>
                </a:solidFill>
                <a:latin typeface="Arial"/>
              </a:rPr>
              <a:t>جنس فوزاری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مکانیسم اث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سیب به ساختار سلولی و روند بیوشیمیایی و داخل سلولی کبد ؛ مغز ، ریه ، ک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ختلال در متابولیسم پروتئین و سیکل اور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اثرات در بدن موجود زن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سیب کب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اهش مصرف مواد غذای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9" descr="fumonisin_B1"/>
          <p:cNvPicPr/>
          <p:nvPr/>
        </p:nvPicPr>
        <p:blipFill>
          <a:blip r:embed="rId2"/>
          <a:stretch/>
        </p:blipFill>
        <p:spPr>
          <a:xfrm>
            <a:off x="250920" y="1052640"/>
            <a:ext cx="3816360" cy="2054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990000"/>
                </a:solidFill>
                <a:latin typeface="Arial"/>
              </a:rPr>
              <a:t>مایکوتوکسین های اساسی</a:t>
            </a:r>
            <a:br>
              <a:rPr sz="4000"/>
            </a:b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Ochratoxin(O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عامل ترش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: آسپریجیلوس و پنی سیلی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مکانیسم اث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تصال به گروه های آمین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اثرات در بدن موجود زند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phrotox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ci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اهش وز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اهش تولید تخم مر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م خوراک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سیب کب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ر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1" descr=""/>
          <p:cNvPicPr/>
          <p:nvPr/>
        </p:nvPicPr>
        <p:blipFill>
          <a:blip r:embed="rId2"/>
          <a:srcRect l="-4225" t="36703" r="-20570" b="-14746"/>
          <a:stretch/>
        </p:blipFill>
        <p:spPr>
          <a:xfrm>
            <a:off x="-468360" y="2852640"/>
            <a:ext cx="61200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990000"/>
                </a:solidFill>
                <a:latin typeface="Arial"/>
              </a:rPr>
              <a:t>مایکوتوکسین های اساسی</a:t>
            </a:r>
            <a:br>
              <a:rPr sz="4000"/>
            </a:b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Zearalenone(ZE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فوزاریوم به همرا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ین سم را ترشح می ک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غلب در ذرت ولی در گندم و جو وسورگو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مکانیسم اث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وی هورمون استروژن و تولید مث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990000"/>
                </a:solidFill>
                <a:latin typeface="Arial"/>
              </a:rPr>
              <a:t>اثرات در بدن موجود زن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فزایش اندازه ک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فزایش اندازه قل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فزایش اندازه کب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فیبرز رو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ختلال در سیستم تولید مث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3" descr=""/>
          <p:cNvPicPr/>
          <p:nvPr/>
        </p:nvPicPr>
        <p:blipFill>
          <a:blip r:embed="rId2"/>
          <a:srcRect l="13444" t="41502" r="-25293" b="-12829"/>
          <a:stretch/>
        </p:blipFill>
        <p:spPr>
          <a:xfrm>
            <a:off x="-1189080" y="3500280"/>
            <a:ext cx="6481800" cy="2708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990000"/>
                </a:solidFill>
                <a:latin typeface="Arial"/>
              </a:rPr>
              <a:t>مایکوتوکسین های کم اهمی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-2 Tox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عامل ترشح جنس فوزاریو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ثرات : ازدست دادن وزن و سیستم ایمن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Fusa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جنس فوزاریم، اثر مستقیم برروی فعالیت های مغز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yclopiazea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جنس آسپریجیلوس ، به همراه افلاتوکسین کاهش جذب ماده غذایی ، کاهش وزن و مر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ذرت ؛ پنیر کاممبر ؛ سوی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Patu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پنی سیلیوم و اسپریجیلو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در سیب و آب سی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Glitoxin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   دستگاه تنف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itrinin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   آسیب کلیو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IKE®PLUS / TOXY-NIL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2"/>
          <a:srcRect l="-12838" t="23531" r="28233" b="40395"/>
          <a:stretch/>
        </p:blipFill>
        <p:spPr>
          <a:xfrm>
            <a:off x="0" y="907920"/>
            <a:ext cx="4648320" cy="210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7080" y="5635800"/>
            <a:ext cx="2619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333399"/>
                </a:solidFill>
                <a:latin typeface="Arial"/>
              </a:rPr>
              <a:t>دکتر افشاری نیک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shar18@gmail.com</a:t>
            </a:r>
            <a:br>
              <a:rPr sz="20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9151591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6:43:48Z</dcterms:created>
  <dc:creator>sh</dc:creator>
  <dc:description/>
  <dc:language>en-US</dc:language>
  <cp:lastModifiedBy>MRT</cp:lastModifiedBy>
  <dcterms:modified xsi:type="dcterms:W3CDTF">2013-07-09T07:49:26Z</dcterms:modified>
  <cp:revision>31</cp:revision>
  <dc:subject/>
  <dc:title>اهمیت و کاربرد مایکوتوکسین بایندردر صنعت دامپروری  دکتر افشاری نیک  Afshar18@gmail.com  09151591484 </dc:title>
</cp:coreProperties>
</file>