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897-8DC4-480D-86B9-C2EEC50F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0D5-1BD2-4D80-AFBA-B05C25A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7F1AB-27E0-4E64-B4BD-EA82FF12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EEE65-97F9-4765-B056-7AB39F62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52FAE-451A-4526-81B7-2E9B2630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0CF7C-4725-4345-BE8A-C4B6C3CE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C4B9F-FBE9-4741-9DE5-71D173A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4B748-B7C1-4EEA-9623-57E4AA8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2EA13-30AA-4CCD-B277-8B8071B9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11BEC-148C-4A8A-929E-0AC63D58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B0FC7-C718-4728-9EB3-27EB04D5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E0891-A535-4F24-9320-96E5A3B8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525-90B8-4386-98A5-7CCE5CBD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5833B-2205-4AA0-A55A-40BABA98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6680B-6D4A-4C62-98AB-53B3CCA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22188-1C1C-4E00-BCA7-F23F949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339E4-84EA-4D6D-8188-C4E66FC9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54F5E-2317-434C-BE7F-A7AE8EF9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C420C-0D82-4497-9CD6-27E8ED6E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232A6-CAA8-4934-8B29-AC1396C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5A720-C96E-4EC2-8C78-3B8454B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CB043-4DD4-47DF-95DF-0D9F24F0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C598B-2F9D-4611-8B93-CA5CC395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74F-CBFC-436D-A7DC-2B0F783C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D05EC-5438-4C60-9747-CF96B6E1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DDEE2-D374-42D5-8CF2-7553A4AF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4A6E0-5890-4B8D-9613-9A59BEAB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63F8-5306-4BE4-9983-91C87F1A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7A008-CFB9-411F-89E2-572BF4F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25BEA-DB92-4519-89BF-3735501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D9586-5AF3-4756-B5F7-38C3F98B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E599B-F14E-4D85-9B86-D2A2BBF9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16792-771E-4BE8-B339-8097DBC8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D826A-98A0-4543-B881-FF0623C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FBC-ED9F-435A-BDC3-3EFB890D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2EE4D-4F2A-4E29-892D-E67D566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25D65-6D38-48FB-BEF6-F6476BEC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6664A-A2AC-4D30-AA82-3707A7ED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CFE8-EE58-499D-B77E-8457EB9C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0F4FF-2020-4169-B14A-89C0D2BF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09F52-171C-47A1-9437-5BC060B3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FB049-33FE-4115-A4D7-109F1823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E6766-B430-49C6-B218-C13B7B52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0F843-12D2-423B-ADAB-B165474A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3B599-79CD-413D-9BD5-D628DDA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0182-B3D2-4DB6-B094-8AA1F799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39872-7B2D-465B-A3E6-109764C4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E4AEE-A52D-4BFF-92B9-0DB1DC7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72737-ABF9-4804-B876-43675F1B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093D4-CA5B-4E76-A2D1-CC606BCC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E7315-C04E-4311-BB5C-791B07A6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A45EB-5E20-4EF9-B7F3-923E3E31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CCFE4-8089-4467-91C3-9778C3B8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E6C04-07DC-41C0-ABF2-DAD561BC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304C3-E27D-4B89-B6DD-BC4C311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1EC28-BC7D-4FCF-94A5-FB348C38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E561-E774-42AF-A7F9-1DED34F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E4326-B53B-423D-A72D-E0D581C4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8A018-423C-4F33-9EBA-4D53023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B8A99-55AD-4FF5-AB52-7206C01E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1213F-D9AD-4FEB-BF2E-9721F9C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F1C1E-96FE-43A0-B734-F15D4D0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CA60F-01AE-4CCD-8202-C9E78899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CB66F-6271-463C-8E26-4F129F6C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82A7F-62B6-4769-B024-9AD01182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C9843-AE94-46BE-859E-3CB8C9B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0D1B7-4FF9-4F74-8993-48D33292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1110-87B7-4EBF-85EB-D66FA84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D7E14-77BE-45E8-862F-9DCA187B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2D291-2F44-4844-AE8F-19AC364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8D71A-D5D1-449D-8344-D94781B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7D708-194F-4A4E-922A-B82F004A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C4898-E197-4018-9C32-812B47C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77914-46B9-45D5-BBF1-D9C5AC5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52FB0-32D3-4FAB-935D-256498B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0D8E8-7D52-4F04-AA93-51E66F6D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46A25-2B2A-4DE5-8FA7-FF27F2BD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99184-951C-492E-84CD-DAE2735C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103-F47A-4FCA-8FDA-E0751F63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E779A-E8F6-4CE6-9EFE-E075870C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3B60B-D916-433C-8D30-8C251EE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18140-45B2-49A1-86F7-127DF73D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7368A-07A7-4BE0-9D4A-72206B7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8B7D8-5E3E-440B-9EF5-E4A204D9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B76E4-BDA2-441D-8D6E-5AAA8CD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F7D22-C4EE-4A6C-BB8E-9C55ED8E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8B7CB-DCF7-4CED-9CF2-3CC1CE6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8CBF4-1922-4278-A128-361EA29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CF20C-E877-4B05-8FB9-3FCDF322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DC05-CA30-447A-9244-3ACB7BBF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A922A-9D91-43D5-BB37-35600E3C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C4E410-60B6-4C18-A0B1-911E3680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03BB7A-7F78-4710-B28B-31D6B62C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B024CE-B0EC-434B-865C-A6E9B86F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DD9C69-1875-43E0-A8C1-E304DA4E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62A66B-35F6-46D7-9CB7-0168472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C67020-F352-4E87-8B61-4CA0277E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3F3C53-76CA-42BF-9749-0770D005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EBC475-69EE-4F2E-AB3C-46A09DF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E14444-F82E-48F9-951D-85DC331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20E1-03F7-48C8-890F-330ECBF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BC01C2-F4ED-417C-9DAF-7F312717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176862-F0D0-480A-BDDA-5A66C446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94441A-3C89-4E9D-A889-8E8E8C89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0AB-ECAB-4B4C-B143-D98D657C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A395-974F-404B-87A0-E3FB9ECB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0DC0-0463-4C78-B8B0-27F246F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9773-C87A-498B-9243-D737F7B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D417-3E7C-4E93-B4C9-BE05A673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B3A4-86D7-45ED-B3AD-40CE04B0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10C73-DC64-4BBC-ADAC-4FE436AA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556D7-0FCB-48BA-866D-B611EC0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56DA4-2750-4F20-8D8E-D7A8694B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361E2-3508-4EFD-B640-DA9C5595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360D8-D661-42D1-8101-6301DC48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F2A-D137-4F07-8A5D-60CFD099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FC4A9-48D1-4D3D-A2DE-66D9AD67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D6059-E9AC-4707-AFA8-14FD15B4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43281-8B71-4137-9D98-E67246B8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0562A-A7AA-45BD-A6FA-C09DA7F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9DC49-22E7-4565-AB1C-CD8E35F6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6DB5F-17DA-4985-B4C1-9FE008FB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77862-5DCF-4402-B733-77C6BADA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5596-2990-40E7-9E04-1528AE61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C990-02EE-4E4D-AC4A-8FF0C4D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B45C-8B06-42E2-B6BE-2D24665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246-54BC-48A2-823C-BFAC4DCB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7B99-D424-41C9-B84A-DCECD786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7794-0DE2-4505-AEA1-18DCA4B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5D8F-4902-4639-984A-81E10F9E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12A4-BF66-4B61-AE97-5D41712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1A47-2DD9-47AA-BC13-87C5C80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0DF6-DBA2-47BF-A293-1423AE30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444A-A98E-4798-B0A9-2931C754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B491-4D4B-449F-BD85-025DAB88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91E1-2015-4B05-B80F-6D015501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556C-D2F0-4383-BA59-6B10B071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A03-54B2-48CF-8254-E3020875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8A8B-44E6-41D1-A853-1020CE1D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DA023-3B30-4BD8-970D-9F3653C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1B38E-CAA5-4202-8193-6495830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0D82-7411-4EAA-B2D2-DC1343B0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1437D-222C-4B08-BB20-DCA67CD8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BB801-3A8F-42AC-8A29-439CBB8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BA2B-EEC5-4641-BB30-1A608B4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88EB-315D-47BE-A714-3896189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C2994-F62D-4F8B-9480-4F523BB5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B8E1-05BA-40FE-A620-5FD37988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C68-F135-41C4-95BE-4302BCED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7046A-E827-4577-80E3-EEAA1B4D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2A6DF-8791-4E1C-B475-01D2234F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05D5-4184-4E92-BF4D-57990866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55C8-94AA-494A-B922-0A9E71B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D0F2-ACBD-45AF-8531-0CDE8EF4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3791B-A781-4CE4-B117-9AB8A085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6AE3-2F45-408F-B3E3-067F52C9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3162-A8F2-409C-A9CD-B5FA821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FF06-5100-4FA8-BAC1-B0D32B32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8479A-56AA-487E-951B-3249B63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3F4-566A-4ABB-A749-C1A06C8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BC3C-4708-450C-B5B0-E5D4AF66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B5F7-4AD9-4192-BCF7-8A49EABE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240B-E901-4182-9B9E-FF7BFE1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FC52C-CD19-4F0F-828B-03F5A9DB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9EF85-2356-4F00-9921-2768D3D5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03A0-BDC1-49D0-8A0B-66956AF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A7403-E3BE-4365-88CC-5ABECDE3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BDBFB-2520-49D4-A52D-1520B33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AF6A2-4146-4594-BB49-B3D4B13B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5130-73C0-4CE2-AA04-CBD21024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181-7729-410D-940D-4536E2F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371E1-4BFB-449B-9AE6-0E28580A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56097-61FC-4AB0-A449-461327D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941D-36DD-4F16-8910-DE34B9FE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D8CA-A27B-4F96-91CC-88E8002F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9C781-F7C8-4E93-9C99-BB46A959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AD736-0B38-48A6-8BB7-E4B2FD2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44AD2-20C4-4626-B984-5ACCD41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FA5E-98FF-47A5-877A-27434C7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C2E8-308E-4DC8-899F-1E3904AA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2DF6-0DE2-47CB-BAD1-FDED76B1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CDF-0509-439A-B744-29A65665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2F898-9C05-40B9-922B-9EA7A1FA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9F8A8-2CE8-480A-AE72-B4616FD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55FE1-4BC3-4328-B65E-630A6C7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CFDEE-9B4F-4638-9B71-21F064D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1852-8154-41FB-ABC3-04EDF548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B6858-2239-43F1-ADEB-E59F0D5E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1E42D-3215-4E0E-9573-7396D52A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D9FDC-2620-4EAE-8176-7D227997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E9A9F-EC34-424C-9483-F906EBE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49230-368B-439D-A516-3776D6C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3E4-66CD-4D8B-A176-D75BEF3EDFBF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30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B3A-B1B7-4A74-B9A4-A0E30BC3D1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5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6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6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7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8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28FF-5011-4587-B95C-A35809610D3A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3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3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65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66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66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66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4D0A-502E-4D7D-881C-178AB9E69589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307-BBC1-4EDA-AA60-F8C757D6C93E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71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2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3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173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4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5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5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50A-26FB-4FC2-A3C3-9A737CB2442E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80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81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1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82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2696-6002-49C2-A4F6-3AA07213421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A816-A203-40DB-A5E3-8EF6BF62592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FAB7-3341-4A33-BF91-3752218CE60C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1E99-05A7-479B-B2EA-814FC2247D5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3194-321E-4E44-B1AC-9FE1333EF21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5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5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C57F-177E-41A9-90AA-1E1A25E1634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5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533E-3DCF-4623-A4A4-9E443D87276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6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7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F70-B8E8-472B-A047-FA6DB9DAA12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6C5-C06D-4298-AC2A-67AFAA4CAC05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04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5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E7BB-B4F5-4B28-8185-E474ECF17F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140000" y="4005360"/>
            <a:ext cx="20142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ffffff"/>
                </a:solidFill>
                <a:latin typeface="Arial Black"/>
              </a:rPr>
              <a:t>نفخ</a:t>
            </a: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cecff"/>
                </a:solidFill>
                <a:latin typeface="Arial"/>
              </a:rPr>
              <a:t>علت مرگ در بیماریهای نفخ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دام را پس از مدتی گرسنگی نباید یکباره در معرض غذا قرار داد  . گاو مبتلا را در محیط تنگ قرار نداده و هرگز به پشت نخوابانیده . نگاهداری گاو در یک سراشیبی به گونه ای باشد که  سر دام بالاتر از بقیه بدن قرار گیرد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ه این ترتیب خروج گاز از بدن دام تسریع میگردد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همچنین نفخ در شیر دان به خاطر برگشتی شیر دان که بیماری تغذیه ای است ایجاد میشود . افزودن فرمالین (محلول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37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% فرمالدئید )به مقدار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%به مایعات جایگزین  شیر در غذای گوساله ها و بره ها بروز نفخ شکمبه را کاهش میدهد و خطرات جانی در سلامتی بره ها ندار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نفخ شکمبه در گوساله ها در سن کمتر از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هفتگی متداول نیست تا این زمان شکمبه هنوز حالت هوازی دارد ورورد شیر یا جانشین شونده های آن به شکمبه باکتری غیر هوازی را زیاد می کند و فرآورده های تخمیری آنها موجب نفخ می گردند . تغذیه شیر با سر پستانک کمک میکند که این نفخ ایجاد نشود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ccecff"/>
                </a:solidFill>
                <a:latin typeface="Arial"/>
              </a:rPr>
              <a:t>نفخ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نفخ یکی از بیماریهای گوارشی 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٬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تغذیه ای است . وجود برخی بیماریهای دستگاه گوارش و یا مصرف گونه های خاصی از گیاهان می تواند باعث بروز نفخ گردد . در بررسی انجام شده در آمریکا نفخ جزء چهارمین عامل ایجاد کننده مرگ ناگهانی معرفی شده است. در مطالعه ای روی 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350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 هزار راس گاو پرواری در ایلات کاترانس آمریکا میزان تلفات ناشی از نفخ حدود 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1/0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 درصد بوده است . گوساله ها 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٬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بره های شیر خوار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٬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 اسب و گوسفند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٬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گاو شیری و پرواری به این بیماری مبتلا می گردند. گوسفند در مقایسه با گاو مقاوم تر است . نفخ شیر دان 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٬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نفخ شکمبه و نفخ روده از انواع رایج نفخ می باشند . علاوه بر این نفخ را می توان به درجات حاد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٬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 نیمه حاد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٬</a:t>
            </a:r>
            <a:r>
              <a:rPr b="0" lang="fa-IR" sz="2800" spc="-1" strike="noStrike">
                <a:solidFill>
                  <a:srgbClr val="eaeaea"/>
                </a:solidFill>
                <a:latin typeface="Arial"/>
              </a:rPr>
              <a:t> مزمن وبه نفخ اولیه و ثانویه تقسیم بندی کرد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" dur="1" fill="hold"/>
                                  <p:tgtEl>
                                    <p:spTgt spid="19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6b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ffffcc"/>
                </a:solidFill>
                <a:latin typeface="Tahoma"/>
              </a:rPr>
              <a:t>نفخ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پروتئین های محلول برخی گیاهان مثل لگومینوزها که بیشتر در سیتو پلاسم برگ ها موجودند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اعث ایجاد کفی پایدار در محیط شکمبه ای میشود. وجود این کف از خروج گاز ممانعت نموده و از عمل آروغ جلوگیری می کند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ه این ترتیب نفخ ایجاد میشود . در مقابل مواد لیپیدی گیاهان و متابولیت های آنها و نیز موکوپروتئین های بزاق عوامل ضد کفی هستند که با کاهش فشار سطحی مایعات شکمبه به صورت ضد نفخ عمل میکنند . سرعت بالای غذا خوردن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رطوبت و نم در غذا می تواند در بروز نفخ کمک کند .یونجه خشک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غذاهای نرم و آسیاب شده نیز میتواند نفخ ایجاد کند .مقدار زیاد کنسانتره در غذا با افزایش بروز اسیدوز و کاستن از حرکات دستگاه گوارشی در خروج گاز و عبور غذا از مسیر گوارشی در ایجاد نفخ موثر است . انسداد مری در اثر فشار خارجی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انسداد کاردیا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اختلال عصب واگ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فتق دیافراگم از عوامل مهم عدم خروج گاز از محیط شکمبه می باشد . بزاق در دستگاه گوارش با کاستن از کشش سطحی مایع شکمبه و با خاصیت بافری که داردو نیز با افزایش رقت مایع شکمبه ای و حرکت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Arial Black"/>
              </a:rPr>
              <a:t>نفخ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مواد غذایی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٬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 در کاستن احتمال بروز نفخ و حتی جلوگیری از بروز آن موثر است . از بیماریهای عفونی غیر گوارشی که با اثر گذاری بر اعصاب یا دستگاه گوارش زمینه ساز بروز نفخ هستند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٬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می توان بیماری های سل و کزاز را نام برد . در بیماری سل غدد لنفاوی مری متورم شده و با اعمال فشار خارجی بر مری مسیر آن را مسدود میکند . در بیماری کزاز در گوساله ها با ایجاد اختلال  در عصب و اگ عمل ناودان مری مختل میگردد و این زمینه ساز بروز نفخ مزمن است . از عوامل میکروبی شکمبه باکتری های کپسول دار و پلی ساکاریدهای تولیدی آنها در بروزنفخ نقش بیشتری دارند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مراتع جوان و شاداب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٬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 مراتع اوره پاشی شده و مصرف زیاد گلوکز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٬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کلسیم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٬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 منیزیم و مواد زیاد نیتروژن دار به بروز نفخ کمک می کند . کلسیم با بولکه کردن استیل کولین و شل شدگی عضلات و منیزیم با ایجاد شل شدگی عضلات  شکمبه ای در بروز نفخ موثر است 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e5e5ff"/>
                </a:solidFill>
                <a:latin typeface="Garamond"/>
              </a:rPr>
              <a:t>نفخ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خصوصیات فردی دام همانند اثر ژنتیک دام در ساختمان شکمبه و حرکات آن و ترکیب پروتئین های بزاق و نیز عادت به چرا نیز از عوامل اثر گذارند . مصرف گونه های خاصی چون غلات جوان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کلم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 نخود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لوبیا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 لگومها شبدرسفید و قرمز نیز در این زمینه موثر است 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علایم بالینی و کالبد گشای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لیس زدن به شکم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 تنگی نفس مشخص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 خارج کردن زبان از دهان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ریزش بزاق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 خیز کیشه بیضه از علایم ظاهری وجود این بیماری است . در کالبد گشایی پس از تلف شدن دام پر خونی گره های لنفاوی سر و گردن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 پر خونی بخش فوقانی دستگاه تنفس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نرمی کلیه ها 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٬</a:t>
            </a:r>
            <a:r>
              <a:rPr b="0" lang="fa-IR" sz="2400" spc="-1" strike="noStrike">
                <a:solidFill>
                  <a:srgbClr val="ffffff"/>
                </a:solidFill>
                <a:latin typeface="Garamond"/>
              </a:rPr>
              <a:t>پر خونی مخاط روده و گاهی موارد پارگی شکم و دیافراگم مشاهده میشود . تا چند ساعت پس از مرگ کف از بین میرود . لایه شاخی شکمبه به صورت ورقه ای کنده میشود و مخاط زیر آن به طور قابل توجهی پر خون به نظر میرسد . دامی که براثر نفخ زمین می خورد به زودی تلف میشود 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9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dfdef6"/>
                </a:solidFill>
                <a:latin typeface="Arial"/>
              </a:rPr>
              <a:t>درمان 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درما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در موارد خفیف می توان از راهنمایی های زیر استفاده کر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-      با قرار دادن تکه ای چوب در دهان ترشح بزاق را تحریک کرد دو سمت این چوب از دوطرف فک های دام بیرون میباشد و با طنابی به سر دام بسته شود تا قابل خروج نباشد یا بلعیده نشو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-      از جوش شیرین به مقدار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 گرم در یک لیتر آب استفاده کرد و به دام خورانی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-      از روغن های غیر سمی مثل روغن های گیاهی به دام خورانیده شود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-      گاز را توسط لوله ای از بدن دام خارج کرد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284328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 Black"/>
              </a:rPr>
              <a:t>درمان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-      از داروهای مربوطه همانند پولوگزالون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٬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46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و.... استفاده نمود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-      مالیدن مخلوطی از روغن های غیر سمی با داروها به پهلوی دام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٬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 با لیس زدن دام این مواد خورده میشود و اثر خویش را میگذارد 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-      از روغن ها و داروهای فوق در آبخوری ها استفاده کرد .(مقدار روغن های گیاهی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240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 تا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300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 گرم به ازاء هر راس دام و یا 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%حجم آبخوری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-      از ترکیبات ضد نفخ در پلت های غذایی استفاده گردد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9</a:t>
            </a:r>
            <a:r>
              <a:rPr b="0" lang="fa-IR" sz="2400" spc="-1" strike="noStrike">
                <a:solidFill>
                  <a:srgbClr val="ffcc00"/>
                </a:solidFill>
                <a:latin typeface="Arial Black"/>
              </a:rPr>
              <a:t>-      اسپری روغن های گیاهی بر روی علف ها و علوفه های مرتع انجام شود. البته بارندگی تا حد زیادی این روغن ها را خواهد شست 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omic Sans MS"/>
              </a:rPr>
              <a:t>درما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omic Sans MS"/>
              </a:rPr>
              <a:t>-   استفاده دایمی از روغن هامی تواند بر کیفیت شیر دام اثر گذار باشد . این روغن ها برجذب بتاکاروتن اثر منفی دارد به این ترتیب مقدار بتا کاروتن در شیر و کره کم می گردد و نیز مزه </a:t>
            </a:r>
            <a:r>
              <a:rPr b="0" lang="fa-IR" sz="3200" spc="-1" strike="noStrike">
                <a:solidFill>
                  <a:srgbClr val="000000"/>
                </a:solidFill>
                <a:latin typeface="Comic Sans MS"/>
              </a:rPr>
              <a:t>٬</a:t>
            </a:r>
            <a:r>
              <a:rPr b="0" lang="fa-IR" sz="3200" spc="-1" strike="noStrike">
                <a:solidFill>
                  <a:srgbClr val="000000"/>
                </a:solidFill>
                <a:latin typeface="Comic Sans MS"/>
              </a:rPr>
              <a:t>بو و طعم شیر نیز تغییر خواهد یافت . از روغنهایی که اثر نامطلوب بر طعم و بو می گذارند می توان روغن کتان </a:t>
            </a:r>
            <a:r>
              <a:rPr b="0" lang="fa-IR" sz="3200" spc="-1" strike="noStrike">
                <a:solidFill>
                  <a:srgbClr val="000000"/>
                </a:solidFill>
                <a:latin typeface="Comic Sans MS"/>
              </a:rPr>
              <a:t>٬</a:t>
            </a:r>
            <a:r>
              <a:rPr b="0" lang="fa-IR" sz="3200" spc="-1" strike="noStrike">
                <a:solidFill>
                  <a:srgbClr val="000000"/>
                </a:solidFill>
                <a:latin typeface="Comic Sans MS"/>
              </a:rPr>
              <a:t>سویاو ماهی را نام برد . روغن بادام زمینی و امولسیون پیه بهترین می باشند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</a:rPr>
              <a:t>علت مرگ در بیماریهای نفخ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در گذشته جذب گازهای سمی چو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2S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یا آمین های سمی چون هیستامین ها را علت مرگ می دانستند ولی به نظر میرسد اینها از عوامل ثانوی می باشند . علت اصلی مرگ اختلالات تنفسی-خونی و قلبی است که در اثر اتساع شکمبه ایجاد می شود . در گاوهای پرواری که کنسانتره زیادی مصرف میکنند و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محیط شکمبه ای اسیدی تری دارند پایداری کف بیشتر است . بیشترین پایداری د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=6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گزارش شده است .در گاوهای پرواری ترکیبات چهار تایی آمونیوم برای درمان استفاده میشود . با اضافه کردن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% نمک به جیره غذایی می توان دام را وادار به خوردن آب کرد به این ترتیب جریان خروج مواد غذایی از شکمبه تسریع می یابد . عیب این کار این است که افزایش وزن دام کاهش می یاب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2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0:27:49Z</dcterms:created>
  <dc:creator>HAMID RAYANEH</dc:creator>
  <dc:description/>
  <dc:language>en-US</dc:language>
  <cp:lastModifiedBy>MRT</cp:lastModifiedBy>
  <dcterms:modified xsi:type="dcterms:W3CDTF">2013-07-01T05:45:16Z</dcterms:modified>
  <cp:revision>4</cp:revision>
  <dc:subject/>
  <dc:title>نفخ                    </dc:title>
</cp:coreProperties>
</file>