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CEDC-4272-4819-9040-36B6C579C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- We must breakdown these very large oligosaccharides into monosaccharides in order to absorb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pha amylase. – Cannot attack a1-4 linkase close to 1-6 branch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ase – specifically removes a single glucose from the nonreducing end of a linear a1-4 glucose chain…breaking down maltose into glucose. (exosaccharida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pha dextinase – cleaves 1,6-alpha glucosidic lin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harides are still too large for passive diffusion across brush border membrane.  We use facilitated diffusion to absorb these molec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and galactose use a sodium-glucose symport (SGLUT1) while fructose uses the glut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ust transport Na out of the cell to maintain proper electrochemical gradient (sodium potassium pu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will also follow sodium into enterocyte. This is critical to maintain proper water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ate transported back to liver for glucose production “Cori Cycle”.  Cost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– basic unit of polysaccha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ose – found as part of lactose in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ctose – found in fruits, vegetables and honey (consumption on the rise….High fructose corn syru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35CC1-D27F-4A9D-8234-421D7669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C8731-580E-40CB-AA7D-C30387E2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724A3-8CC2-47FD-9A86-9BC82779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D9F8D-48A1-4C7E-8D97-5D5D0092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2557-5DD4-4366-BE31-51E5D459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3A04-0AB4-4824-AA5D-2DD5D58F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C437-3892-4E07-9AE1-BF4EA936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4B8C-1DEF-4A48-B8CB-214DAAAF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1E26-CE6D-4022-A9C6-8FE18019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0679-6BC8-4892-ABD8-7DB61DB8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32DB-3F80-45CA-A41A-B080C678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A54BC-8F4E-4FD2-A1A0-7A56C7B0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E1AA-7512-4737-9DA2-40CEC29D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E24E-0009-41F8-BC0B-89BDD496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C9B8-0F97-46B6-98DB-5FC22743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4BBA-BE05-4FD1-BA1D-6CE38845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884C-A2A2-4BC2-BDBE-4B97141E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0E1FD-9326-4B79-A7A9-C7866808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92EE5-AEEA-49AC-8180-66B45173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92E05-30CB-4FDB-9979-1FE4F56C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43224-D935-4A4A-90CB-DE15D2A5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D9218-D28B-424B-915F-92E1C544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19AB3-219B-4A78-8BB5-69E29889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30226-42AC-4C09-872F-C7D16174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0012-3489-4496-B92F-5DC4FD499A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6929-0CAD-45F5-BA7D-46D73E5DA7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arbl.cvmbs.colostate.edu/hbooks/molecules/hexose_xport.html" TargetMode="External"/><Relationship Id="rId3" Type="http://schemas.openxmlformats.org/officeDocument/2006/relationships/hyperlink" Target="http://arbl.cvmbs.colostate.edu/hbooks/molecules/hexose_xport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lass.fst.ohio-state.edu/fst761/761home.html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Overview of Carbohydrate Digestion and Metabolism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lycog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320040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342900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48520" y="3581280"/>
            <a:ext cx="304560" cy="3049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266688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3733920"/>
            <a:ext cx="30492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388620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4114800"/>
            <a:ext cx="30456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44880" y="3886200"/>
            <a:ext cx="15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-4 l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105520" y="3352680"/>
            <a:ext cx="3045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67480" y="4419720"/>
            <a:ext cx="30492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4648320"/>
            <a:ext cx="30492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29400" y="266688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3048120"/>
            <a:ext cx="30492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3352680"/>
            <a:ext cx="304560" cy="3049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0200" y="3276720"/>
            <a:ext cx="15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-6 l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858000" y="3581280"/>
            <a:ext cx="53352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0" y="243828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81680" y="2133720"/>
            <a:ext cx="30492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1905120"/>
            <a:ext cx="30492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2362320"/>
            <a:ext cx="30492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2362320"/>
            <a:ext cx="30492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2209680"/>
            <a:ext cx="30456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13716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jor storage carbohydrate in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ng straight glucose chains (a1-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anched every 4-8 glc residues (a 1-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branched than st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ss osmotic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sily mobi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10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ges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57600" y="1200240"/>
            <a:ext cx="9525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-stomach – Salivary amylase :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1-4 endoglycosid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1573200" y="412740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65160" y="4322880"/>
            <a:ext cx="30492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35160" y="449568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4648320"/>
            <a:ext cx="30492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92400" y="3933720"/>
            <a:ext cx="30456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4800600"/>
            <a:ext cx="304920" cy="3049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4952880"/>
            <a:ext cx="30456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52680" y="5105520"/>
            <a:ext cx="30492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5000" y="4952880"/>
            <a:ext cx="15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-4 l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295280" y="441936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529740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3733920"/>
            <a:ext cx="30456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43200" y="411480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4419720"/>
            <a:ext cx="304920" cy="3045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1800" y="4343400"/>
            <a:ext cx="15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-6 l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971800" y="4648320"/>
            <a:ext cx="38088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3505320"/>
            <a:ext cx="30456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320040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2971800"/>
            <a:ext cx="30456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3429000"/>
            <a:ext cx="30456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3429000"/>
            <a:ext cx="30456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3276720"/>
            <a:ext cx="30492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4267080"/>
            <a:ext cx="114300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3314880"/>
            <a:ext cx="30492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72200" y="339084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77120" y="3467160"/>
            <a:ext cx="304560" cy="3049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2552760"/>
            <a:ext cx="30456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2857680"/>
            <a:ext cx="30492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3162240"/>
            <a:ext cx="304920" cy="3049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426708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77120" y="4343400"/>
            <a:ext cx="30456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520524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32120" y="553068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lt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81680" y="361944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848720" y="5943600"/>
            <a:ext cx="304560" cy="3049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823160" y="5638680"/>
            <a:ext cx="304920" cy="3049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48600" y="6172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somalt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33160" y="373392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amyl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49720" y="454176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ltotri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24360" y="5483160"/>
            <a:ext cx="304920" cy="304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86600" y="3720960"/>
            <a:ext cx="30492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69080" y="4406760"/>
            <a:ext cx="304920" cy="3049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13400" y="5192640"/>
            <a:ext cx="304920" cy="3049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69000" y="311940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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imit dextr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omac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 much carbohydrate diges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id and pepsin to unfold prote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minants have forestomachs with extens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bial populations to breakdown 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aerobically ferment fe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mall Intest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82760" y="107964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creatic enzy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-amyl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"/>
          <p:cNvSpPr/>
          <p:nvPr/>
        </p:nvSpPr>
        <p:spPr>
          <a:xfrm>
            <a:off x="2006640" y="325116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87520" y="325116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68760" y="3251160"/>
            <a:ext cx="30456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25760" y="3251160"/>
            <a:ext cx="30456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244160" y="34034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49640" y="3251160"/>
            <a:ext cx="304920" cy="304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30600" y="2984400"/>
            <a:ext cx="0" cy="83844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74640" y="3035160"/>
            <a:ext cx="0" cy="83844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4851360"/>
            <a:ext cx="30456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22640" y="5232240"/>
            <a:ext cx="304560" cy="3049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40160" y="5219640"/>
            <a:ext cx="30456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08440" y="5219640"/>
            <a:ext cx="30456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06360" y="488952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49440" y="486396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35240" y="4876920"/>
            <a:ext cx="304920" cy="3045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51040" y="4889520"/>
            <a:ext cx="30456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56080" y="5207040"/>
            <a:ext cx="30456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25960" y="5219640"/>
            <a:ext cx="30456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86200" y="5194440"/>
            <a:ext cx="304920" cy="304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06840" y="3403440"/>
            <a:ext cx="111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99760" y="404352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my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21280" y="580860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mylopec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68960" y="5308560"/>
            <a:ext cx="111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81480" y="325116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24560" y="3225960"/>
            <a:ext cx="30492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92840" y="3238560"/>
            <a:ext cx="304920" cy="3049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35840" y="325116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97640" y="3251160"/>
            <a:ext cx="304920" cy="3049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394160" y="3987360"/>
            <a:ext cx="1397160" cy="1320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29360" y="3732120"/>
            <a:ext cx="214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amyl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98280" y="30765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87800" y="4965840"/>
            <a:ext cx="0" cy="8380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36840" y="4610160"/>
            <a:ext cx="0" cy="8380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59600" y="5029200"/>
            <a:ext cx="30456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5410080"/>
            <a:ext cx="304560" cy="3049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794640" y="5397480"/>
            <a:ext cx="30456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803920" y="504180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89720" y="5054760"/>
            <a:ext cx="304920" cy="3045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78000" y="25956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ltotri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74920" y="263376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lt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92440" y="609120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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imit dextr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149960" y="5384880"/>
            <a:ext cx="304920" cy="3045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ligosaccharide digestion..co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"/>
          <p:cNvSpPr/>
          <p:nvPr/>
        </p:nvSpPr>
        <p:spPr>
          <a:xfrm>
            <a:off x="1479600" y="1854360"/>
            <a:ext cx="30492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97120" y="2235240"/>
            <a:ext cx="304560" cy="3049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114640" y="2222640"/>
            <a:ext cx="30456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23920" y="186696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09720" y="1879560"/>
            <a:ext cx="304920" cy="3049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76440" y="2228760"/>
            <a:ext cx="304920" cy="304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60480" y="2787480"/>
            <a:ext cx="19080" cy="1467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90560" y="3424320"/>
            <a:ext cx="30492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3081240"/>
            <a:ext cx="685800" cy="419040"/>
          </a:xfrm>
          <a:custGeom>
            <a:avLst/>
            <a:gdLst/>
            <a:ahLst/>
            <a:rect l="l" t="t" r="r" b="b"/>
            <a:pathLst>
              <a:path w="432" h="264">
                <a:moveTo>
                  <a:pt x="432" y="0"/>
                </a:moveTo>
                <a:cubicBezTo>
                  <a:pt x="416" y="48"/>
                  <a:pt x="400" y="96"/>
                  <a:pt x="384" y="144"/>
                </a:cubicBezTo>
                <a:cubicBezTo>
                  <a:pt x="375" y="171"/>
                  <a:pt x="336" y="176"/>
                  <a:pt x="312" y="192"/>
                </a:cubicBezTo>
                <a:cubicBezTo>
                  <a:pt x="291" y="206"/>
                  <a:pt x="264" y="208"/>
                  <a:pt x="240" y="216"/>
                </a:cubicBezTo>
                <a:cubicBezTo>
                  <a:pt x="158" y="243"/>
                  <a:pt x="89" y="264"/>
                  <a:pt x="0" y="264"/>
                </a:cubicBezTo>
              </a:path>
            </a:pathLst>
          </a:custGeom>
          <a:noFill/>
          <a:ln w="381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22360" y="463536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39880" y="5016600"/>
            <a:ext cx="304920" cy="3045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7400" y="500364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4660920"/>
            <a:ext cx="304920" cy="3049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19200" y="5010120"/>
            <a:ext cx="30492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93600" y="3471840"/>
            <a:ext cx="396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Glucoamylase (maltas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-dextrin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27520" y="5321160"/>
            <a:ext cx="2323800" cy="343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1841040" y="3321000"/>
            <a:ext cx="438120" cy="247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384720" y="4654440"/>
            <a:ext cx="18720" cy="723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78400" y="5645160"/>
            <a:ext cx="304920" cy="3049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95920" y="5632560"/>
            <a:ext cx="30492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91000" y="5289480"/>
            <a:ext cx="304920" cy="3049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58080" y="5638680"/>
            <a:ext cx="304560" cy="3049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14840" y="6019920"/>
            <a:ext cx="30456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17920" y="5416560"/>
            <a:ext cx="380880" cy="590400"/>
          </a:xfrm>
          <a:custGeom>
            <a:avLst/>
            <a:gdLst/>
            <a:ahLst/>
            <a:rect l="l" t="t" r="r" b="b"/>
            <a:pathLst>
              <a:path w="240" h="372">
                <a:moveTo>
                  <a:pt x="0" y="0"/>
                </a:moveTo>
                <a:cubicBezTo>
                  <a:pt x="29" y="10"/>
                  <a:pt x="49" y="13"/>
                  <a:pt x="72" y="36"/>
                </a:cubicBezTo>
                <a:cubicBezTo>
                  <a:pt x="126" y="90"/>
                  <a:pt x="62" y="61"/>
                  <a:pt x="132" y="84"/>
                </a:cubicBezTo>
                <a:cubicBezTo>
                  <a:pt x="201" y="188"/>
                  <a:pt x="240" y="245"/>
                  <a:pt x="240" y="372"/>
                </a:cubicBezTo>
              </a:path>
            </a:pathLst>
          </a:custGeom>
          <a:noFill/>
          <a:ln w="381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508800" y="4483080"/>
            <a:ext cx="895320" cy="1047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012280" y="4545000"/>
            <a:ext cx="21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-dextrin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448400" y="391788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810560" y="3924360"/>
            <a:ext cx="304920" cy="3049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67520" y="393696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556400" y="307296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18320" y="5187960"/>
            <a:ext cx="704880" cy="114120"/>
          </a:xfrm>
          <a:custGeom>
            <a:avLst/>
            <a:gdLst/>
            <a:ahLst/>
            <a:rect l="l" t="t" r="r" b="b"/>
            <a:pathLst>
              <a:path w="444" h="72">
                <a:moveTo>
                  <a:pt x="0" y="72"/>
                </a:moveTo>
                <a:cubicBezTo>
                  <a:pt x="76" y="47"/>
                  <a:pt x="151" y="19"/>
                  <a:pt x="228" y="0"/>
                </a:cubicBezTo>
                <a:cubicBezTo>
                  <a:pt x="428" y="12"/>
                  <a:pt x="356" y="12"/>
                  <a:pt x="444" y="12"/>
                </a:cubicBezTo>
              </a:path>
            </a:pathLst>
          </a:custGeom>
          <a:noFill/>
          <a:ln w="381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486560" y="5143680"/>
            <a:ext cx="30492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238880" y="2660760"/>
            <a:ext cx="30492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01040" y="2666880"/>
            <a:ext cx="304560" cy="3049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37320" y="3306600"/>
            <a:ext cx="571680" cy="262080"/>
          </a:xfrm>
          <a:custGeom>
            <a:avLst/>
            <a:gdLst/>
            <a:ahLst/>
            <a:rect l="l" t="t" r="r" b="b"/>
            <a:pathLst>
              <a:path w="360" h="165">
                <a:moveTo>
                  <a:pt x="0" y="165"/>
                </a:moveTo>
                <a:cubicBezTo>
                  <a:pt x="12" y="157"/>
                  <a:pt x="26" y="151"/>
                  <a:pt x="36" y="141"/>
                </a:cubicBezTo>
                <a:cubicBezTo>
                  <a:pt x="46" y="131"/>
                  <a:pt x="48" y="113"/>
                  <a:pt x="60" y="105"/>
                </a:cubicBezTo>
                <a:cubicBezTo>
                  <a:pt x="81" y="92"/>
                  <a:pt x="108" y="89"/>
                  <a:pt x="132" y="81"/>
                </a:cubicBezTo>
                <a:cubicBezTo>
                  <a:pt x="146" y="76"/>
                  <a:pt x="155" y="63"/>
                  <a:pt x="168" y="57"/>
                </a:cubicBezTo>
                <a:cubicBezTo>
                  <a:pt x="297" y="0"/>
                  <a:pt x="195" y="63"/>
                  <a:pt x="276" y="9"/>
                </a:cubicBezTo>
                <a:cubicBezTo>
                  <a:pt x="292" y="13"/>
                  <a:pt x="308" y="16"/>
                  <a:pt x="324" y="21"/>
                </a:cubicBezTo>
                <a:cubicBezTo>
                  <a:pt x="336" y="24"/>
                  <a:pt x="360" y="33"/>
                  <a:pt x="360" y="33"/>
                </a:cubicBezTo>
              </a:path>
            </a:pathLst>
          </a:custGeom>
          <a:noFill/>
          <a:ln w="381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172360" y="320040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7537320" y="2044440"/>
            <a:ext cx="0" cy="476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77160" y="32050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malt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23160" y="210024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sucr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23720" y="163980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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Limit dextr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391520" y="1670040"/>
            <a:ext cx="30456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mall intest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rcRect l="10067" t="6425" r="55346" b="63124"/>
          <a:stretch/>
        </p:blipFill>
        <p:spPr>
          <a:xfrm>
            <a:off x="0" y="1447920"/>
            <a:ext cx="3606840" cy="49528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580200" y="1370160"/>
            <a:ext cx="559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ortal for transport of virtual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ll nutr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Water and electrolyte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31880" y="3689280"/>
            <a:ext cx="555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Enzymes associated wi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intestinal surface membr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buClr>
                <a:srgbClr val="ffcc00"/>
              </a:buClr>
              <a:buFont typeface="Garamond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Sucr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buClr>
                <a:srgbClr val="ffcc00"/>
              </a:buClr>
              <a:buFont typeface="Symbol" charset="2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dextrin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buClr>
                <a:srgbClr val="ffcc00"/>
              </a:buClr>
              <a:buFont typeface="Garamond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Glucoamylase (malt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buClr>
                <a:srgbClr val="ffcc00"/>
              </a:buClr>
              <a:buFont typeface="Garamond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Lact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buClr>
                <a:srgbClr val="ffcc00"/>
              </a:buClr>
              <a:buFont typeface="Garamond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peptid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8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rbohydrate absorp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1270080"/>
            <a:ext cx="6072120" cy="44640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6206040" y="2108160"/>
            <a:ext cx="2294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exose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 transpor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1880" y="617544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Garamond"/>
              </a:rPr>
              <a:t>ap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1657440" y="4847760"/>
            <a:ext cx="0" cy="1257480"/>
          </a:xfrm>
          <a:prstGeom prst="line">
            <a:avLst/>
          </a:prstGeom>
          <a:ln w="57240">
            <a:solidFill>
              <a:srgbClr val="000514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70720" y="6176880"/>
            <a:ext cx="164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Garamond"/>
              </a:rPr>
              <a:t>basolat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610160" y="4847760"/>
            <a:ext cx="0" cy="1257480"/>
          </a:xfrm>
          <a:prstGeom prst="line">
            <a:avLst/>
          </a:prstGeom>
          <a:ln w="57240">
            <a:solidFill>
              <a:srgbClr val="000514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lucose and galactose absorp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71440" y="2214720"/>
            <a:ext cx="822960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Read Chapter 5 and answer the questions on page 102 of Stipanuk. Be prepared to discuss them on Frid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rbohydrate malabsorp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3760" y="1503360"/>
            <a:ext cx="534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1024560" indent="-571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ctose intolerance (hypolactasia), page 100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24560" indent="-571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line lactase with a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24560" indent="-571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ctose fermented in LI –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95360" indent="-49032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as and volatile F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95360" indent="-49032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ater retention – diarrhea/bloa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1024560" indent="-571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t all popul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95360" indent="-49032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rthern European – low inciden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95360" indent="-49032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ian/African Americans – Hig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95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52280" y="2073240"/>
            <a:ext cx="4016520" cy="21272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 flipH="1">
            <a:off x="2074680" y="3397320"/>
            <a:ext cx="20520" cy="10764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91520" y="449748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1-4 link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838080" y="914400"/>
            <a:ext cx="73152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abolism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hemical changes that take place in a cell that produce energy and basic materials needed for important life proce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llions of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e organs (liver, adipose, heart, br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usands of enzy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ous conditions (fed, fasted, exercise, st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1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ST/AN/HN 76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564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FST 76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. Jeff Firkins – Carbohydr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. Josh Bomser – Lipi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- Amy Long, 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ding / Writing Assign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xt - Biochemical and Physiological Aspects of Human Nutrition- Martha H. Stipanuk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day – Overview of carbohydrates (Jan 7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402720" y="186372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421160" y="2414520"/>
            <a:ext cx="0" cy="1604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06240" y="405432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lucose-6-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72840" y="607860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yruv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52840" y="301464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33"/>
                </a:solidFill>
                <a:latin typeface="Garamond"/>
              </a:rPr>
              <a:t>Hexokin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7200" y="3800520"/>
            <a:ext cx="131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ent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hosph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h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11520" y="504036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Garamond"/>
              </a:rPr>
              <a:t>glyco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rbohydr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rve as primary source of energy in the c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ntral to all metabolic proces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"/>
          <p:cNvSpPr/>
          <p:nvPr/>
        </p:nvSpPr>
        <p:spPr>
          <a:xfrm>
            <a:off x="4371840" y="4471920"/>
            <a:ext cx="0" cy="55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10000" y="5424480"/>
            <a:ext cx="0" cy="55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43680" y="4272120"/>
            <a:ext cx="12855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51480" y="4046400"/>
            <a:ext cx="25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lc-1- phosph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876000" y="527544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glyco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872480" y="4414680"/>
            <a:ext cx="458640" cy="957600"/>
          </a:xfrm>
          <a:custGeom>
            <a:avLst/>
            <a:gdLst/>
            <a:ahLst/>
            <a:rect l="l" t="t" r="r" b="b"/>
            <a:pathLst>
              <a:path w="289" h="603">
                <a:moveTo>
                  <a:pt x="126" y="603"/>
                </a:moveTo>
                <a:cubicBezTo>
                  <a:pt x="172" y="588"/>
                  <a:pt x="186" y="548"/>
                  <a:pt x="225" y="522"/>
                </a:cubicBezTo>
                <a:cubicBezTo>
                  <a:pt x="238" y="484"/>
                  <a:pt x="257" y="454"/>
                  <a:pt x="270" y="414"/>
                </a:cubicBezTo>
                <a:cubicBezTo>
                  <a:pt x="273" y="405"/>
                  <a:pt x="279" y="387"/>
                  <a:pt x="279" y="387"/>
                </a:cubicBezTo>
                <a:cubicBezTo>
                  <a:pt x="274" y="313"/>
                  <a:pt x="289" y="193"/>
                  <a:pt x="216" y="144"/>
                </a:cubicBezTo>
                <a:cubicBezTo>
                  <a:pt x="198" y="91"/>
                  <a:pt x="221" y="140"/>
                  <a:pt x="180" y="99"/>
                </a:cubicBezTo>
                <a:cubicBezTo>
                  <a:pt x="172" y="91"/>
                  <a:pt x="170" y="79"/>
                  <a:pt x="162" y="72"/>
                </a:cubicBezTo>
                <a:cubicBezTo>
                  <a:pt x="155" y="66"/>
                  <a:pt x="143" y="67"/>
                  <a:pt x="135" y="63"/>
                </a:cubicBezTo>
                <a:cubicBezTo>
                  <a:pt x="91" y="41"/>
                  <a:pt x="45" y="22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16760" y="4486320"/>
            <a:ext cx="503280" cy="900000"/>
          </a:xfrm>
          <a:custGeom>
            <a:avLst/>
            <a:gdLst/>
            <a:ahLst/>
            <a:rect l="l" t="t" r="r" b="b"/>
            <a:pathLst>
              <a:path w="317" h="567">
                <a:moveTo>
                  <a:pt x="233" y="0"/>
                </a:moveTo>
                <a:cubicBezTo>
                  <a:pt x="192" y="14"/>
                  <a:pt x="149" y="25"/>
                  <a:pt x="107" y="36"/>
                </a:cubicBezTo>
                <a:cubicBezTo>
                  <a:pt x="45" y="77"/>
                  <a:pt x="60" y="51"/>
                  <a:pt x="44" y="99"/>
                </a:cubicBezTo>
                <a:cubicBezTo>
                  <a:pt x="51" y="277"/>
                  <a:pt x="0" y="463"/>
                  <a:pt x="206" y="504"/>
                </a:cubicBezTo>
                <a:cubicBezTo>
                  <a:pt x="231" y="521"/>
                  <a:pt x="260" y="535"/>
                  <a:pt x="287" y="549"/>
                </a:cubicBezTo>
                <a:cubicBezTo>
                  <a:pt x="317" y="564"/>
                  <a:pt x="314" y="547"/>
                  <a:pt x="314" y="5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243080" y="3757680"/>
            <a:ext cx="2114640" cy="428400"/>
          </a:xfrm>
          <a:custGeom>
            <a:avLst/>
            <a:gdLst/>
            <a:ahLst/>
            <a:rect l="l" t="t" r="r" b="b"/>
            <a:pathLst>
              <a:path w="1332" h="270">
                <a:moveTo>
                  <a:pt x="1332" y="270"/>
                </a:moveTo>
                <a:cubicBezTo>
                  <a:pt x="1214" y="93"/>
                  <a:pt x="1012" y="29"/>
                  <a:pt x="810" y="0"/>
                </a:cubicBezTo>
                <a:cubicBezTo>
                  <a:pt x="729" y="7"/>
                  <a:pt x="648" y="7"/>
                  <a:pt x="567" y="18"/>
                </a:cubicBezTo>
                <a:cubicBezTo>
                  <a:pt x="521" y="24"/>
                  <a:pt x="477" y="39"/>
                  <a:pt x="432" y="45"/>
                </a:cubicBezTo>
                <a:cubicBezTo>
                  <a:pt x="344" y="74"/>
                  <a:pt x="250" y="88"/>
                  <a:pt x="162" y="117"/>
                </a:cubicBezTo>
                <a:cubicBezTo>
                  <a:pt x="64" y="150"/>
                  <a:pt x="213" y="97"/>
                  <a:pt x="108" y="144"/>
                </a:cubicBezTo>
                <a:cubicBezTo>
                  <a:pt x="71" y="160"/>
                  <a:pt x="36" y="171"/>
                  <a:pt x="0" y="18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52560" y="239220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ytosol - anaerob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5001480" y="1106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yruv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0680" y="10746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ytos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6714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86280" y="1585800"/>
            <a:ext cx="14400" cy="55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982400" y="213192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ceytl C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-189000" y="186048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itochondr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aerob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43400" y="2543040"/>
            <a:ext cx="2901960" cy="2372040"/>
          </a:xfrm>
          <a:custGeom>
            <a:avLst/>
            <a:gdLst/>
            <a:ahLst/>
            <a:rect l="l" t="t" r="r" b="b"/>
            <a:pathLst>
              <a:path w="1828" h="1494">
                <a:moveTo>
                  <a:pt x="1467" y="0"/>
                </a:moveTo>
                <a:cubicBezTo>
                  <a:pt x="1510" y="14"/>
                  <a:pt x="1542" y="51"/>
                  <a:pt x="1584" y="72"/>
                </a:cubicBezTo>
                <a:cubicBezTo>
                  <a:pt x="1606" y="105"/>
                  <a:pt x="1647" y="144"/>
                  <a:pt x="1665" y="180"/>
                </a:cubicBezTo>
                <a:cubicBezTo>
                  <a:pt x="1669" y="188"/>
                  <a:pt x="1669" y="199"/>
                  <a:pt x="1674" y="207"/>
                </a:cubicBezTo>
                <a:cubicBezTo>
                  <a:pt x="1685" y="226"/>
                  <a:pt x="1698" y="243"/>
                  <a:pt x="1710" y="261"/>
                </a:cubicBezTo>
                <a:cubicBezTo>
                  <a:pt x="1710" y="261"/>
                  <a:pt x="1732" y="328"/>
                  <a:pt x="1737" y="342"/>
                </a:cubicBezTo>
                <a:cubicBezTo>
                  <a:pt x="1743" y="360"/>
                  <a:pt x="1755" y="396"/>
                  <a:pt x="1755" y="396"/>
                </a:cubicBezTo>
                <a:cubicBezTo>
                  <a:pt x="1762" y="473"/>
                  <a:pt x="1766" y="547"/>
                  <a:pt x="1791" y="621"/>
                </a:cubicBezTo>
                <a:cubicBezTo>
                  <a:pt x="1806" y="757"/>
                  <a:pt x="1828" y="915"/>
                  <a:pt x="1773" y="1044"/>
                </a:cubicBezTo>
                <a:cubicBezTo>
                  <a:pt x="1714" y="1182"/>
                  <a:pt x="1604" y="1252"/>
                  <a:pt x="1485" y="1332"/>
                </a:cubicBezTo>
                <a:cubicBezTo>
                  <a:pt x="1448" y="1357"/>
                  <a:pt x="1410" y="1390"/>
                  <a:pt x="1368" y="1404"/>
                </a:cubicBezTo>
                <a:cubicBezTo>
                  <a:pt x="1300" y="1455"/>
                  <a:pt x="1222" y="1468"/>
                  <a:pt x="1143" y="1494"/>
                </a:cubicBezTo>
                <a:cubicBezTo>
                  <a:pt x="1053" y="1491"/>
                  <a:pt x="963" y="1490"/>
                  <a:pt x="873" y="1485"/>
                </a:cubicBezTo>
                <a:cubicBezTo>
                  <a:pt x="762" y="1479"/>
                  <a:pt x="645" y="1430"/>
                  <a:pt x="540" y="1395"/>
                </a:cubicBezTo>
                <a:cubicBezTo>
                  <a:pt x="508" y="1384"/>
                  <a:pt x="460" y="1377"/>
                  <a:pt x="432" y="1359"/>
                </a:cubicBezTo>
                <a:cubicBezTo>
                  <a:pt x="397" y="1336"/>
                  <a:pt x="415" y="1344"/>
                  <a:pt x="378" y="1332"/>
                </a:cubicBezTo>
                <a:cubicBezTo>
                  <a:pt x="366" y="1323"/>
                  <a:pt x="355" y="1313"/>
                  <a:pt x="342" y="1305"/>
                </a:cubicBezTo>
                <a:cubicBezTo>
                  <a:pt x="331" y="1298"/>
                  <a:pt x="317" y="1295"/>
                  <a:pt x="306" y="1287"/>
                </a:cubicBezTo>
                <a:cubicBezTo>
                  <a:pt x="240" y="1240"/>
                  <a:pt x="188" y="1174"/>
                  <a:pt x="144" y="1107"/>
                </a:cubicBezTo>
                <a:cubicBezTo>
                  <a:pt x="124" y="1077"/>
                  <a:pt x="105" y="1044"/>
                  <a:pt x="81" y="1017"/>
                </a:cubicBezTo>
                <a:cubicBezTo>
                  <a:pt x="64" y="998"/>
                  <a:pt x="27" y="963"/>
                  <a:pt x="27" y="963"/>
                </a:cubicBezTo>
                <a:cubicBezTo>
                  <a:pt x="21" y="945"/>
                  <a:pt x="15" y="927"/>
                  <a:pt x="9" y="909"/>
                </a:cubicBezTo>
                <a:cubicBezTo>
                  <a:pt x="6" y="900"/>
                  <a:pt x="0" y="882"/>
                  <a:pt x="0" y="882"/>
                </a:cubicBezTo>
                <a:cubicBezTo>
                  <a:pt x="3" y="819"/>
                  <a:pt x="4" y="756"/>
                  <a:pt x="9" y="693"/>
                </a:cubicBezTo>
                <a:cubicBezTo>
                  <a:pt x="15" y="621"/>
                  <a:pt x="106" y="544"/>
                  <a:pt x="135" y="477"/>
                </a:cubicBezTo>
                <a:cubicBezTo>
                  <a:pt x="153" y="436"/>
                  <a:pt x="166" y="374"/>
                  <a:pt x="198" y="342"/>
                </a:cubicBezTo>
                <a:cubicBezTo>
                  <a:pt x="241" y="299"/>
                  <a:pt x="267" y="247"/>
                  <a:pt x="315" y="207"/>
                </a:cubicBezTo>
                <a:cubicBezTo>
                  <a:pt x="325" y="199"/>
                  <a:pt x="332" y="188"/>
                  <a:pt x="342" y="180"/>
                </a:cubicBezTo>
                <a:cubicBezTo>
                  <a:pt x="359" y="167"/>
                  <a:pt x="396" y="144"/>
                  <a:pt x="396" y="144"/>
                </a:cubicBezTo>
                <a:cubicBezTo>
                  <a:pt x="426" y="99"/>
                  <a:pt x="405" y="123"/>
                  <a:pt x="468" y="81"/>
                </a:cubicBezTo>
                <a:cubicBezTo>
                  <a:pt x="477" y="75"/>
                  <a:pt x="495" y="63"/>
                  <a:pt x="495" y="63"/>
                </a:cubicBezTo>
                <a:cubicBezTo>
                  <a:pt x="501" y="54"/>
                  <a:pt x="505" y="44"/>
                  <a:pt x="513" y="36"/>
                </a:cubicBezTo>
                <a:cubicBezTo>
                  <a:pt x="521" y="28"/>
                  <a:pt x="540" y="18"/>
                  <a:pt x="540" y="1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92800" y="337356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Kre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y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215120" y="3486240"/>
            <a:ext cx="600120" cy="357120"/>
          </a:xfrm>
          <a:custGeom>
            <a:avLst/>
            <a:gdLst/>
            <a:ahLst/>
            <a:rect l="l" t="t" r="r" b="b"/>
            <a:pathLst>
              <a:path w="378" h="225">
                <a:moveTo>
                  <a:pt x="0" y="225"/>
                </a:moveTo>
                <a:cubicBezTo>
                  <a:pt x="19" y="197"/>
                  <a:pt x="32" y="130"/>
                  <a:pt x="45" y="117"/>
                </a:cubicBezTo>
                <a:cubicBezTo>
                  <a:pt x="87" y="75"/>
                  <a:pt x="61" y="97"/>
                  <a:pt x="126" y="54"/>
                </a:cubicBezTo>
                <a:cubicBezTo>
                  <a:pt x="144" y="42"/>
                  <a:pt x="159" y="25"/>
                  <a:pt x="180" y="18"/>
                </a:cubicBezTo>
                <a:cubicBezTo>
                  <a:pt x="198" y="12"/>
                  <a:pt x="234" y="0"/>
                  <a:pt x="234" y="0"/>
                </a:cubicBezTo>
                <a:cubicBezTo>
                  <a:pt x="273" y="3"/>
                  <a:pt x="312" y="4"/>
                  <a:pt x="351" y="9"/>
                </a:cubicBezTo>
                <a:cubicBezTo>
                  <a:pt x="360" y="10"/>
                  <a:pt x="378" y="18"/>
                  <a:pt x="378" y="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711920" y="344484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educ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quival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286840" y="4143240"/>
            <a:ext cx="0" cy="614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27080" y="4902120"/>
            <a:ext cx="198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xid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hosphory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AT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20520" y="3956040"/>
            <a:ext cx="98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MI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CI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57720" y="3914640"/>
            <a:ext cx="1104840" cy="700200"/>
          </a:xfrm>
          <a:custGeom>
            <a:avLst/>
            <a:gdLst/>
            <a:ahLst/>
            <a:rect l="l" t="t" r="r" b="b"/>
            <a:pathLst>
              <a:path w="696" h="756">
                <a:moveTo>
                  <a:pt x="0" y="0"/>
                </a:moveTo>
                <a:cubicBezTo>
                  <a:pt x="196" y="7"/>
                  <a:pt x="239" y="2"/>
                  <a:pt x="396" y="54"/>
                </a:cubicBezTo>
                <a:cubicBezTo>
                  <a:pt x="440" y="69"/>
                  <a:pt x="487" y="115"/>
                  <a:pt x="531" y="135"/>
                </a:cubicBezTo>
                <a:cubicBezTo>
                  <a:pt x="548" y="143"/>
                  <a:pt x="567" y="147"/>
                  <a:pt x="585" y="153"/>
                </a:cubicBezTo>
                <a:cubicBezTo>
                  <a:pt x="594" y="156"/>
                  <a:pt x="612" y="162"/>
                  <a:pt x="612" y="162"/>
                </a:cubicBezTo>
                <a:cubicBezTo>
                  <a:pt x="618" y="171"/>
                  <a:pt x="622" y="182"/>
                  <a:pt x="630" y="189"/>
                </a:cubicBezTo>
                <a:cubicBezTo>
                  <a:pt x="637" y="195"/>
                  <a:pt x="650" y="191"/>
                  <a:pt x="657" y="198"/>
                </a:cubicBezTo>
                <a:cubicBezTo>
                  <a:pt x="664" y="205"/>
                  <a:pt x="662" y="217"/>
                  <a:pt x="666" y="225"/>
                </a:cubicBezTo>
                <a:cubicBezTo>
                  <a:pt x="671" y="235"/>
                  <a:pt x="678" y="243"/>
                  <a:pt x="684" y="252"/>
                </a:cubicBezTo>
                <a:cubicBezTo>
                  <a:pt x="677" y="389"/>
                  <a:pt x="696" y="505"/>
                  <a:pt x="576" y="585"/>
                </a:cubicBezTo>
                <a:cubicBezTo>
                  <a:pt x="538" y="643"/>
                  <a:pt x="478" y="668"/>
                  <a:pt x="414" y="684"/>
                </a:cubicBezTo>
                <a:cubicBezTo>
                  <a:pt x="346" y="729"/>
                  <a:pt x="432" y="676"/>
                  <a:pt x="351" y="711"/>
                </a:cubicBezTo>
                <a:cubicBezTo>
                  <a:pt x="341" y="715"/>
                  <a:pt x="334" y="725"/>
                  <a:pt x="324" y="729"/>
                </a:cubicBezTo>
                <a:cubicBezTo>
                  <a:pt x="289" y="742"/>
                  <a:pt x="253" y="756"/>
                  <a:pt x="216" y="75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00280" y="2114640"/>
            <a:ext cx="2529000" cy="357120"/>
          </a:xfrm>
          <a:custGeom>
            <a:avLst/>
            <a:gdLst/>
            <a:ahLst/>
            <a:rect l="l" t="t" r="r" b="b"/>
            <a:pathLst>
              <a:path w="1593" h="225">
                <a:moveTo>
                  <a:pt x="1593" y="153"/>
                </a:moveTo>
                <a:cubicBezTo>
                  <a:pt x="1550" y="144"/>
                  <a:pt x="1510" y="133"/>
                  <a:pt x="1467" y="126"/>
                </a:cubicBezTo>
                <a:cubicBezTo>
                  <a:pt x="1344" y="77"/>
                  <a:pt x="1221" y="51"/>
                  <a:pt x="1089" y="36"/>
                </a:cubicBezTo>
                <a:cubicBezTo>
                  <a:pt x="960" y="4"/>
                  <a:pt x="809" y="13"/>
                  <a:pt x="675" y="0"/>
                </a:cubicBezTo>
                <a:cubicBezTo>
                  <a:pt x="541" y="12"/>
                  <a:pt x="417" y="46"/>
                  <a:pt x="288" y="81"/>
                </a:cubicBezTo>
                <a:cubicBezTo>
                  <a:pt x="238" y="95"/>
                  <a:pt x="202" y="119"/>
                  <a:pt x="153" y="135"/>
                </a:cubicBezTo>
                <a:cubicBezTo>
                  <a:pt x="135" y="141"/>
                  <a:pt x="99" y="153"/>
                  <a:pt x="99" y="153"/>
                </a:cubicBezTo>
                <a:cubicBezTo>
                  <a:pt x="90" y="162"/>
                  <a:pt x="83" y="173"/>
                  <a:pt x="72" y="180"/>
                </a:cubicBezTo>
                <a:cubicBezTo>
                  <a:pt x="64" y="185"/>
                  <a:pt x="52" y="183"/>
                  <a:pt x="45" y="189"/>
                </a:cubicBezTo>
                <a:cubicBezTo>
                  <a:pt x="37" y="196"/>
                  <a:pt x="35" y="209"/>
                  <a:pt x="27" y="216"/>
                </a:cubicBezTo>
                <a:cubicBezTo>
                  <a:pt x="20" y="222"/>
                  <a:pt x="0" y="225"/>
                  <a:pt x="0" y="225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57520" y="2500200"/>
            <a:ext cx="2400120" cy="500040"/>
          </a:xfrm>
          <a:custGeom>
            <a:avLst/>
            <a:gdLst/>
            <a:ahLst/>
            <a:rect l="l" t="t" r="r" b="b"/>
            <a:pathLst>
              <a:path w="1512" h="315">
                <a:moveTo>
                  <a:pt x="0" y="252"/>
                </a:moveTo>
                <a:cubicBezTo>
                  <a:pt x="67" y="269"/>
                  <a:pt x="130" y="298"/>
                  <a:pt x="198" y="315"/>
                </a:cubicBezTo>
                <a:cubicBezTo>
                  <a:pt x="285" y="312"/>
                  <a:pt x="372" y="312"/>
                  <a:pt x="459" y="306"/>
                </a:cubicBezTo>
                <a:cubicBezTo>
                  <a:pt x="507" y="303"/>
                  <a:pt x="603" y="288"/>
                  <a:pt x="603" y="288"/>
                </a:cubicBezTo>
                <a:cubicBezTo>
                  <a:pt x="720" y="249"/>
                  <a:pt x="841" y="240"/>
                  <a:pt x="963" y="225"/>
                </a:cubicBezTo>
                <a:cubicBezTo>
                  <a:pt x="1019" y="206"/>
                  <a:pt x="1077" y="197"/>
                  <a:pt x="1134" y="180"/>
                </a:cubicBezTo>
                <a:cubicBezTo>
                  <a:pt x="1152" y="175"/>
                  <a:pt x="1172" y="173"/>
                  <a:pt x="1188" y="162"/>
                </a:cubicBezTo>
                <a:cubicBezTo>
                  <a:pt x="1197" y="156"/>
                  <a:pt x="1205" y="148"/>
                  <a:pt x="1215" y="144"/>
                </a:cubicBezTo>
                <a:cubicBezTo>
                  <a:pt x="1253" y="127"/>
                  <a:pt x="1314" y="123"/>
                  <a:pt x="1350" y="99"/>
                </a:cubicBezTo>
                <a:cubicBezTo>
                  <a:pt x="1359" y="93"/>
                  <a:pt x="1367" y="85"/>
                  <a:pt x="1377" y="81"/>
                </a:cubicBezTo>
                <a:cubicBezTo>
                  <a:pt x="1473" y="38"/>
                  <a:pt x="1397" y="86"/>
                  <a:pt x="1458" y="45"/>
                </a:cubicBezTo>
                <a:cubicBezTo>
                  <a:pt x="1464" y="36"/>
                  <a:pt x="1468" y="25"/>
                  <a:pt x="1476" y="18"/>
                </a:cubicBezTo>
                <a:cubicBezTo>
                  <a:pt x="1483" y="12"/>
                  <a:pt x="1495" y="13"/>
                  <a:pt x="1503" y="9"/>
                </a:cubicBezTo>
                <a:cubicBezTo>
                  <a:pt x="1507" y="7"/>
                  <a:pt x="1509" y="3"/>
                  <a:pt x="1512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842480" y="2487600"/>
            <a:ext cx="17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ATTY ACI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247840" y="617400"/>
            <a:ext cx="5133960" cy="58518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37520" y="148752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o mitochond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65680" y="1330200"/>
            <a:ext cx="103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Gluc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Gluc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Gluc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386480" y="431640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F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n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03600" y="4273560"/>
            <a:ext cx="118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Gluc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Glyc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ac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asted St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0" name=""/>
          <p:cNvSpPr/>
          <p:nvPr/>
        </p:nvSpPr>
        <p:spPr>
          <a:xfrm>
            <a:off x="3445920" y="156384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464000" y="2114640"/>
            <a:ext cx="0" cy="1604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349080" y="375444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lucose-6-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15680" y="577836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yruv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95680" y="271476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33"/>
                </a:solidFill>
                <a:latin typeface="Garamond"/>
              </a:rPr>
              <a:t>Hexokin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30040" y="3500280"/>
            <a:ext cx="131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ent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hosph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h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54360" y="47401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Garamond"/>
              </a:rPr>
              <a:t>glyco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14680" y="4172040"/>
            <a:ext cx="0" cy="55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52840" y="5124600"/>
            <a:ext cx="0" cy="556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86520" y="3971880"/>
            <a:ext cx="12855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394320" y="3746520"/>
            <a:ext cx="25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lc-1- phosph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918840" y="497520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glyco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915320" y="4114800"/>
            <a:ext cx="458640" cy="957240"/>
          </a:xfrm>
          <a:custGeom>
            <a:avLst/>
            <a:gdLst/>
            <a:ahLst/>
            <a:rect l="l" t="t" r="r" b="b"/>
            <a:pathLst>
              <a:path w="289" h="603">
                <a:moveTo>
                  <a:pt x="126" y="603"/>
                </a:moveTo>
                <a:cubicBezTo>
                  <a:pt x="172" y="588"/>
                  <a:pt x="186" y="548"/>
                  <a:pt x="225" y="522"/>
                </a:cubicBezTo>
                <a:cubicBezTo>
                  <a:pt x="238" y="484"/>
                  <a:pt x="257" y="454"/>
                  <a:pt x="270" y="414"/>
                </a:cubicBezTo>
                <a:cubicBezTo>
                  <a:pt x="273" y="405"/>
                  <a:pt x="279" y="387"/>
                  <a:pt x="279" y="387"/>
                </a:cubicBezTo>
                <a:cubicBezTo>
                  <a:pt x="274" y="313"/>
                  <a:pt x="289" y="193"/>
                  <a:pt x="216" y="144"/>
                </a:cubicBezTo>
                <a:cubicBezTo>
                  <a:pt x="198" y="91"/>
                  <a:pt x="221" y="140"/>
                  <a:pt x="180" y="99"/>
                </a:cubicBezTo>
                <a:cubicBezTo>
                  <a:pt x="172" y="91"/>
                  <a:pt x="170" y="79"/>
                  <a:pt x="162" y="72"/>
                </a:cubicBezTo>
                <a:cubicBezTo>
                  <a:pt x="155" y="66"/>
                  <a:pt x="143" y="67"/>
                  <a:pt x="135" y="63"/>
                </a:cubicBezTo>
                <a:cubicBezTo>
                  <a:pt x="91" y="41"/>
                  <a:pt x="45" y="22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59600" y="4186080"/>
            <a:ext cx="503280" cy="900360"/>
          </a:xfrm>
          <a:custGeom>
            <a:avLst/>
            <a:gdLst/>
            <a:ahLst/>
            <a:rect l="l" t="t" r="r" b="b"/>
            <a:pathLst>
              <a:path w="317" h="567">
                <a:moveTo>
                  <a:pt x="233" y="0"/>
                </a:moveTo>
                <a:cubicBezTo>
                  <a:pt x="192" y="14"/>
                  <a:pt x="149" y="25"/>
                  <a:pt x="107" y="36"/>
                </a:cubicBezTo>
                <a:cubicBezTo>
                  <a:pt x="45" y="77"/>
                  <a:pt x="60" y="51"/>
                  <a:pt x="44" y="99"/>
                </a:cubicBezTo>
                <a:cubicBezTo>
                  <a:pt x="51" y="277"/>
                  <a:pt x="0" y="463"/>
                  <a:pt x="206" y="504"/>
                </a:cubicBezTo>
                <a:cubicBezTo>
                  <a:pt x="231" y="521"/>
                  <a:pt x="260" y="535"/>
                  <a:pt x="287" y="549"/>
                </a:cubicBezTo>
                <a:cubicBezTo>
                  <a:pt x="317" y="564"/>
                  <a:pt x="314" y="547"/>
                  <a:pt x="314" y="5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285920" y="3457440"/>
            <a:ext cx="2114640" cy="428760"/>
          </a:xfrm>
          <a:custGeom>
            <a:avLst/>
            <a:gdLst/>
            <a:ahLst/>
            <a:rect l="l" t="t" r="r" b="b"/>
            <a:pathLst>
              <a:path w="1332" h="270">
                <a:moveTo>
                  <a:pt x="1332" y="270"/>
                </a:moveTo>
                <a:cubicBezTo>
                  <a:pt x="1214" y="93"/>
                  <a:pt x="1012" y="29"/>
                  <a:pt x="810" y="0"/>
                </a:cubicBezTo>
                <a:cubicBezTo>
                  <a:pt x="729" y="7"/>
                  <a:pt x="648" y="7"/>
                  <a:pt x="567" y="18"/>
                </a:cubicBezTo>
                <a:cubicBezTo>
                  <a:pt x="521" y="24"/>
                  <a:pt x="477" y="39"/>
                  <a:pt x="432" y="45"/>
                </a:cubicBezTo>
                <a:cubicBezTo>
                  <a:pt x="344" y="74"/>
                  <a:pt x="250" y="88"/>
                  <a:pt x="162" y="117"/>
                </a:cubicBezTo>
                <a:cubicBezTo>
                  <a:pt x="64" y="150"/>
                  <a:pt x="213" y="97"/>
                  <a:pt x="108" y="144"/>
                </a:cubicBezTo>
                <a:cubicBezTo>
                  <a:pt x="71" y="160"/>
                  <a:pt x="36" y="171"/>
                  <a:pt x="0" y="18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800600" y="2343240"/>
            <a:ext cx="1728720" cy="214200"/>
          </a:xfrm>
          <a:prstGeom prst="rightArrow">
            <a:avLst>
              <a:gd name="adj1" fmla="val 50000"/>
              <a:gd name="adj2" fmla="val 20176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88280" y="181764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eed 13.8 kJ/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554160" y="2246400"/>
            <a:ext cx="27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TP =  -30 kJ/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16.7 kJ/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3857400" y="4300200"/>
            <a:ext cx="14040" cy="1400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48760" y="48322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G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4081320" y="2209680"/>
            <a:ext cx="14400" cy="1400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633760" y="264636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G-6-P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trolling Metabolic Flux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3" name=""/>
          <p:cNvSpPr/>
          <p:nvPr/>
        </p:nvSpPr>
        <p:spPr>
          <a:xfrm>
            <a:off x="60120" y="167652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. Control enzyme lev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-345960" y="2616120"/>
            <a:ext cx="85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. Control of enzyme activity (activation or inhib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trol of enzyme activ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514600" y="914400"/>
            <a:ext cx="4000680" cy="5715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2743200" y="5181480"/>
            <a:ext cx="76212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240" y="4952880"/>
            <a:ext cx="23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e limiting s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14600" y="5181480"/>
            <a:ext cx="1066680" cy="0"/>
          </a:xfrm>
          <a:prstGeom prst="line">
            <a:avLst/>
          </a:prstGeom>
          <a:ln w="7632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735720" y="5232240"/>
            <a:ext cx="172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lycogen synth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activ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191120" y="4572000"/>
            <a:ext cx="609480" cy="533520"/>
          </a:xfrm>
          <a:prstGeom prst="rect">
            <a:avLst/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800600" y="48769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108400" y="46483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1065960" y="3885480"/>
            <a:ext cx="3429000" cy="609480"/>
          </a:xfrm>
          <a:custGeom>
            <a:avLst/>
            <a:gdLst>
              <a:gd name="textAreaLeft" fmla="*/ 617760 w 3429000"/>
              <a:gd name="textAreaRight" fmla="*/ 2171160 w 3429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86" hR="21600" stAng="10800000" swAng="-5400000"/>
                <a:lnTo>
                  <a:pt x="9785" y="21600"/>
                </a:lnTo>
                <a:arcTo wR="7786" hR="21600" stAng="5400000" swAng="-3336182"/>
                <a:lnTo>
                  <a:pt x="21373" y="5175"/>
                </a:lnTo>
                <a:lnTo>
                  <a:pt x="16571" y="0"/>
                </a:lnTo>
                <a:lnTo>
                  <a:pt x="11314" y="5175"/>
                </a:lnTo>
                <a:lnTo>
                  <a:pt x="15344" y="5175"/>
                </a:lnTo>
                <a:arcTo wR="7786" hR="21600" stAng="2063818" swAng="3175895"/>
                <a:lnTo>
                  <a:pt x="8785" y="21421"/>
                </a:lnTo>
                <a:arcTo wR="7786" hR="21600" stAng="5560286" swAng="5239714"/>
                <a:close/>
              </a:path>
              <a:path fill="darkenLess" w="21600" h="21600">
                <a:moveTo>
                  <a:pt x="0" y="0"/>
                </a:moveTo>
                <a:arcTo wR="7786" hR="21600" stAng="10800000" swAng="-5400000"/>
                <a:lnTo>
                  <a:pt x="9785" y="21600"/>
                </a:lnTo>
                <a:arcTo wR="7786" hR="21600" stAng="5400000" swAng="160286"/>
                <a:lnTo>
                  <a:pt x="8785" y="21421"/>
                </a:lnTo>
                <a:arcTo wR="7786" hR="21600" stAng="5560286" swAng="5239714"/>
                <a:close/>
              </a:path>
            </a:pathLst>
          </a:cu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4572000"/>
            <a:ext cx="609480" cy="533520"/>
          </a:xfrm>
          <a:prstGeom prst="rect">
            <a:avLst/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142640" y="48769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16200" y="4648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16560" y="5156280"/>
            <a:ext cx="172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lycogen synth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inactiv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495680" y="5791320"/>
            <a:ext cx="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84760" y="640080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ycogen 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19520" y="3124080"/>
            <a:ext cx="533160" cy="533520"/>
          </a:xfrm>
          <a:prstGeom prst="rect">
            <a:avLst/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60080" y="3124080"/>
            <a:ext cx="229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lycogen synthase kin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activ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352680" y="33526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584160" y="3124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762120"/>
            <a:ext cx="9144000" cy="15228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457200"/>
            <a:ext cx="75960" cy="7621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752480" y="457200"/>
            <a:ext cx="76320" cy="7621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90720" y="345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1522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0880" y="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u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05320" y="457200"/>
            <a:ext cx="75960" cy="7621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09880" y="457200"/>
            <a:ext cx="76320" cy="7621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3049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86200" y="11430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024800" y="87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1905120"/>
            <a:ext cx="457200" cy="457200"/>
          </a:xfrm>
          <a:prstGeom prst="rect">
            <a:avLst/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124080" y="2437920"/>
            <a:ext cx="3962520" cy="609840"/>
          </a:xfrm>
          <a:custGeom>
            <a:avLst/>
            <a:gdLst>
              <a:gd name="textAreaLeft" fmla="*/ 713880 w 3962520"/>
              <a:gd name="textAreaRight" fmla="*/ 2509200 w 396252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86" hR="21600" stAng="10800000" swAng="-5400000"/>
                <a:lnTo>
                  <a:pt x="9785" y="21600"/>
                </a:lnTo>
                <a:arcTo wR="7786" hR="21600" stAng="5400000" swAng="-3336182"/>
                <a:lnTo>
                  <a:pt x="21373" y="5175"/>
                </a:lnTo>
                <a:lnTo>
                  <a:pt x="16571" y="0"/>
                </a:lnTo>
                <a:lnTo>
                  <a:pt x="11314" y="5175"/>
                </a:lnTo>
                <a:lnTo>
                  <a:pt x="15344" y="5175"/>
                </a:lnTo>
                <a:arcTo wR="7786" hR="21600" stAng="2063818" swAng="3175895"/>
                <a:lnTo>
                  <a:pt x="8785" y="21421"/>
                </a:lnTo>
                <a:arcTo wR="7786" hR="21600" stAng="5560286" swAng="5239714"/>
                <a:close/>
              </a:path>
              <a:path fill="darkenLess" w="21600" h="21600">
                <a:moveTo>
                  <a:pt x="0" y="0"/>
                </a:moveTo>
                <a:arcTo wR="7786" hR="21600" stAng="10800000" swAng="-5400000"/>
                <a:lnTo>
                  <a:pt x="9785" y="21600"/>
                </a:lnTo>
                <a:arcTo wR="7786" hR="21600" stAng="5400000" swAng="160286"/>
                <a:lnTo>
                  <a:pt x="8785" y="21421"/>
                </a:lnTo>
                <a:arcTo wR="7786" hR="21600" stAng="5560286" swAng="5239714"/>
                <a:close/>
              </a:path>
            </a:pathLst>
          </a:cu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876920" y="2133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25960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490000" y="1752480"/>
            <a:ext cx="156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tein Kinase 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activ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19520" y="1828800"/>
            <a:ext cx="457200" cy="457200"/>
          </a:xfrm>
          <a:prstGeom prst="rect">
            <a:avLst/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2971800" y="1294920"/>
            <a:ext cx="2209680" cy="533520"/>
          </a:xfrm>
          <a:custGeom>
            <a:avLst/>
            <a:gdLst>
              <a:gd name="textAreaLeft" fmla="*/ 398160 w 2209680"/>
              <a:gd name="textAreaRight" fmla="*/ 1399320 w 22096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86" hR="21600" stAng="10800000" swAng="-5400000"/>
                <a:lnTo>
                  <a:pt x="9785" y="21600"/>
                </a:lnTo>
                <a:arcTo wR="7786" hR="21600" stAng="5400000" swAng="-3336182"/>
                <a:lnTo>
                  <a:pt x="21373" y="5175"/>
                </a:lnTo>
                <a:lnTo>
                  <a:pt x="16571" y="0"/>
                </a:lnTo>
                <a:lnTo>
                  <a:pt x="11314" y="5175"/>
                </a:lnTo>
                <a:lnTo>
                  <a:pt x="15344" y="5175"/>
                </a:lnTo>
                <a:arcTo wR="7786" hR="21600" stAng="2063818" swAng="3175895"/>
                <a:lnTo>
                  <a:pt x="8785" y="21421"/>
                </a:lnTo>
                <a:arcTo wR="7786" hR="21600" stAng="5560286" swAng="5239714"/>
                <a:close/>
              </a:path>
              <a:path fill="darkenLess" w="21600" h="21600">
                <a:moveTo>
                  <a:pt x="0" y="0"/>
                </a:moveTo>
                <a:arcTo wR="7786" hR="21600" stAng="10800000" swAng="-5400000"/>
                <a:lnTo>
                  <a:pt x="9785" y="21600"/>
                </a:lnTo>
                <a:arcTo wR="7786" hR="21600" stAng="5400000" swAng="160286"/>
                <a:lnTo>
                  <a:pt x="8785" y="21421"/>
                </a:lnTo>
                <a:arcTo wR="7786" hR="21600" stAng="5560286" swAng="5239714"/>
                <a:close/>
              </a:path>
            </a:pathLst>
          </a:cu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222920" y="1803240"/>
            <a:ext cx="156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tein Kinase 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inactiv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276720" y="20574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508200" y="18288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867280" y="3200400"/>
            <a:ext cx="533520" cy="533520"/>
          </a:xfrm>
          <a:prstGeom prst="rect">
            <a:avLst/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400800" y="3429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63120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48280" y="3200400"/>
            <a:ext cx="229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lycogen synthase kin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inactiv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trolling Metabolic Flux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1" name=""/>
          <p:cNvSpPr/>
          <p:nvPr/>
        </p:nvSpPr>
        <p:spPr>
          <a:xfrm>
            <a:off x="44280" y="167652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. Control enzyme lev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-345960" y="2666880"/>
            <a:ext cx="85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. Control of enzyme activity (activation or inhib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4120" y="363708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. Compartament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31760" y="4114800"/>
            <a:ext cx="961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atty acid oxidation occurs in mitochondrial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atty acid synthesis occurs in endoplasmic reticulum membrane expo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o the cytoplasm of the cel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4480" y="5638680"/>
            <a:ext cx="33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. Hormonal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lucose utiliz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rcRect l="1153" t="1866" r="1762" b="0"/>
          <a:stretch/>
        </p:blipFill>
        <p:spPr>
          <a:xfrm>
            <a:off x="231840" y="492120"/>
            <a:ext cx="4784760" cy="58514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5132880" y="331920"/>
            <a:ext cx="40730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age 1 – postparand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ll tissues utilize gluc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age 2 – postabsorptive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KEY – Maintain blood gluc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Glycogeno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Glucogneogen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ac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yru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Glyce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opio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pare glucose by metabolizing f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age 3- Early star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Gluconeogen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ave 4 – Intermediate star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gluconeogen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Ketone bod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age 5 – Star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74320" y="0"/>
            <a:ext cx="34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rbohydr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143000"/>
            <a:ext cx="7848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hydrates are called carbohydrates because they are essentially hydrates of carbon (i.e. they are composed of carbon and water and have a composition of (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jor nutritional role of carbohydrates is to provide energy and digestible carbohydrates provid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 kilocalories per gr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 single carbohydrate is essent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but carbohydrates do participate in many required functions in the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762120"/>
            <a:ext cx="8991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arbohydrate Metabolism/ Utilization- Tissue Specificit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uscle – cardiac and skelet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xidize glucose/produce and store glycogen (fed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reakdown glycogen (fasted state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hift to other fuels in fasting state (fatty acid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dipose and li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lucose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acetyl Co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lucose to glycerol for triglyceride synthes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ver releases glucose for other tissu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ervous syst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ways use glucose except during extreme fas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productive tract/mammar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lucose required by fet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ctose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major milk carbohydra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d blood cel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 mitochondr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xidize glucose to lacta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ctate returned to liver for Gluconeogenes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6040" y="268200"/>
            <a:ext cx="83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hotosynthesis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un’s energy becomes part of glucose molec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32040" y="1752480"/>
            <a:ext cx="900000" cy="828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60680" y="2509920"/>
            <a:ext cx="342720" cy="185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46440" y="216684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617840" y="1581120"/>
            <a:ext cx="214200" cy="25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203120" y="1409400"/>
            <a:ext cx="28440" cy="328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545760" y="1809360"/>
            <a:ext cx="42876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45760" y="2424240"/>
            <a:ext cx="485640" cy="27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2567160"/>
            <a:ext cx="28800" cy="41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8680" y="28368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715000" y="2158920"/>
            <a:ext cx="2635200" cy="3408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65000" y="3222720"/>
            <a:ext cx="207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bon di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lorophy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49480" y="3776760"/>
            <a:ext cx="971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89880" y="355284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080" y="6075360"/>
            <a:ext cx="43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6 CO2 + 6 H20 + energy (su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63244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4840" y="6075360"/>
            <a:ext cx="24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6H12O6 + 6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84320" y="500040"/>
            <a:ext cx="5256360" cy="3497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116440" y="427824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 grams of glucose / day = 480 cal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2209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imple Sugars -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267080" y="762120"/>
            <a:ext cx="48769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saccharid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541008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lex carbohydr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ligosacchari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lysacchari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r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lycog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etary fiber (Dr. Firkin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rc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jor storage carbohydrate in higher pla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mylose – long straight glucose chains (a1-4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mylopectin – branched every 24-30 glc residues (a 1-6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vides 80% of dietary calories in humans worldw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029200" y="1219320"/>
            <a:ext cx="373392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4:40:48Z</dcterms:created>
  <dc:creator>bomser.1</dc:creator>
  <dc:description/>
  <dc:language>en-US</dc:language>
  <cp:lastModifiedBy>bomser.1</cp:lastModifiedBy>
  <dcterms:modified xsi:type="dcterms:W3CDTF">2004-01-05T03:16:17Z</dcterms:modified>
  <cp:revision>15</cp:revision>
  <dc:subject/>
  <dc:title>Overview of Carbohydrate Digestion and Metabolism</dc:title>
</cp:coreProperties>
</file>