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AFE-6B2A-47BF-AE6C-7CB4895F66C6}" type="slidenum"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0197-5F32-43F8-A926-2696B3908E6D}" type="slidenum"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E076-D76B-42A5-8E43-66999D9A2722}" type="slidenum"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ACF-78BA-4112-A470-8048482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8A9-4455-4ADC-8796-214F708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6AB-B533-431D-8520-8B908D7E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0BD-23F6-469E-91BE-97BEE017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16FE-6E01-4752-B4CD-E28CA569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4E3-6BEE-4918-8801-46EBE8A0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22BD-EC1F-4572-9C76-2A58B71A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A21-7612-43E8-8DBF-6643DCC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CF13-D376-40BA-A316-D8EBD77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BCB3-9D28-488E-87AA-8D01C186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EB4-E431-4C71-AE4D-7677E59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E2C-625E-43AE-809A-A0490240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914-CCF4-49EA-99F1-8669054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8A75-7CEB-438F-9713-83927AB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04BD-DE27-4EAD-8FB4-BD5AD0C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892-2492-49A5-98A5-3A362879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EA9-6AB8-479C-8B25-34E4D5F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DD8-8CB1-49A5-BC75-FAE7547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4FB-C4B3-463B-BFD8-90783694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A74-4C76-4CC6-B76E-309D885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194-77CB-45DC-845A-E917E42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5FD-E97E-4F6C-9093-DE722F3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482-8A23-4435-A26C-CE577A6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244-6CA7-4321-9915-5E33DB5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CAF-9F21-4658-9085-3DF125CB8F2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cccc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ccc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ccc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cc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5475-8F81-4D16-95AA-39424BB128D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yadavhariom@gmail.co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5943600" y="4267080"/>
            <a:ext cx="278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00"/>
                  </a:solidFill>
                  <a:miter/>
                </a:ln>
                <a:solidFill>
                  <a:srgbClr val="993300">
                    <a:alpha val="3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come</a:t>
            </a:r>
            <a:endParaRPr b="0" lang="en-US" sz="2400" spc="1" strike="noStrike">
              <a:ln w="12600">
                <a:solidFill>
                  <a:srgbClr val="cc9900"/>
                </a:solidFill>
                <a:miter/>
              </a:ln>
              <a:solidFill>
                <a:srgbClr val="993300">
                  <a:alpha val="3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ny Microbial Mun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rumen is home to billions and billions of microbes, including bacteria, protists, fungi, and viruses. These many different rumen microbes form a complex community of organisms that interact with one another, helping the animal digest its food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Microbial Popul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4620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48" name="Picture 5" descr="http://4hgarden.msu.edu/kidstour/zoo/zacrumengraph.gif"/>
          <p:cNvPicPr/>
          <p:nvPr/>
        </p:nvPicPr>
        <p:blipFill>
          <a:blip r:embed="rId1"/>
          <a:stretch/>
        </p:blipFill>
        <p:spPr>
          <a:xfrm>
            <a:off x="4191120" y="4008600"/>
            <a:ext cx="4952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Fermentation in Rumina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men is a fermentation chamber filled with microorganisms (Gregg, 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erobic process-thu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can absorb energetic by-products from bacteria ferment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s enzymes produced by rumen microorganisms to digest the ingested materia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 two distinguished groups:  host (ruminant) and the microorganism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ww.esl.ohio-state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Rumen Microb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(20-200 microns) unicellular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gest bacteria and feed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ulf feed particles and digest carbohydrates, proteins and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s affected by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Yokoyama and Johnson, 1988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48320" y="3352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55" name="Picture 8" descr="Fig1a"/>
          <p:cNvPicPr/>
          <p:nvPr/>
        </p:nvPicPr>
        <p:blipFill>
          <a:blip r:embed="rId1"/>
          <a:stretch/>
        </p:blipFill>
        <p:spPr>
          <a:xfrm>
            <a:off x="1523880" y="2057400"/>
            <a:ext cx="7620120" cy="3581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1600200" y="3636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Entodinium (Rumen Protozoa)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n only for about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s usually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est recalcitrant f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imsci.agrenv.mcgill.ca/fe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Rumen Microb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ulolytic bacteria (fiber dige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pH 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N in form of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S for synthesis of sulfur-containing amino acids (cysteine and methio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 acetate, propionate, little butyrate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dominate from roughage di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Bacterial Popula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ylolytic bacteria (starch, sugar dige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est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pH 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N as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pept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 propionate, butyrate and lac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dominate from grain di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 change to grain diet causes lactic acidosis (rapidly decreases 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Contd…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ne-produc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 methane (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ed by microbes for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 loss of energy to 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by eru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Contd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Improvement of  Forage Qualit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ingestive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ingestive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Pre-ingestive Method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ing lignin content and increasing fermentable carbohydrat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available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ing concentration of secondary compounds.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(Ulyatt, 199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ogenous fibrolytic enzymes to improve feed utili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981080" y="4572000"/>
            <a:ext cx="6477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cc"/>
                </a:solidFill>
                <a:latin typeface="Times New Roman"/>
              </a:rPr>
              <a:t>Annu Yadav, Paras Yadav and Hariom Yadav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Animal Biotechnology Department, 2Animal Biochemistry Division, National Dairy Research Institute, Karnal-132001, Haryana, India, Email: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yadavhariom@gmail.com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21" name="Picture 7" descr="button"/>
          <p:cNvPicPr/>
          <p:nvPr/>
        </p:nvPicPr>
        <p:blipFill>
          <a:blip r:embed="rId2"/>
          <a:stretch/>
        </p:blipFill>
        <p:spPr>
          <a:xfrm>
            <a:off x="3886200" y="29718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1523880" y="2057400"/>
            <a:ext cx="71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Times New Roman"/>
              </a:rPr>
              <a:t>RUMEN BIOTECHNOLOGY</a:t>
            </a:r>
            <a:endParaRPr b="0" lang="en-US" sz="4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Post-ingestive Method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fibre dig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ing efficiency of nitrogen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cation of ruminal ec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binant ruminal Micro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Hoover and Stokes, 1991; McSweeny et al.,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GI Microbes in livestock development.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Microbial degradation of antinutritional f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nins Toxic Non-protein amino aci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a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oace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yrrolizi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llison et al., 1985; Nelson et al., 1995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GI Microbial enzymes In Industr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nase in food, beverages, in preparation of instant tea and as clarifier in fruit juices and b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tase as feed additives in monogastric’s foods to increase phosphate utilis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of restriction enzymes for e.g.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u I and Sru4DI from ruminal selenomon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obacill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es for disease treatment  as probio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(Cheng, 1999)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Future Prospect and Conclu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natural barrier for controlling the entry of enteric pathogens into the human food ch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ive livestock production 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industries apart from the Livestock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and economical way to enhance economy of developing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865320" y="2362320"/>
            <a:ext cx="1718640" cy="2214000"/>
            <a:chOff x="3865320" y="2362320"/>
            <a:chExt cx="1718640" cy="2214000"/>
          </a:xfrm>
        </p:grpSpPr>
        <p:sp>
          <p:nvSpPr>
            <p:cNvPr id="178" name="AutoShape 3"/>
            <p:cNvSpPr/>
            <p:nvPr/>
          </p:nvSpPr>
          <p:spPr>
            <a:xfrm rot="20938200">
              <a:off x="3886200" y="4038120"/>
              <a:ext cx="1676520" cy="38124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nk You</a:t>
              </a:r>
              <a:endParaRPr b="0" lang="en-US" sz="2400" spc="-1" strike="noStrike">
                <a:solidFill>
                  <a:srgbClr val="cccccc"/>
                </a:solidFill>
                <a:latin typeface="Times New Roman"/>
              </a:endParaRPr>
            </a:p>
          </p:txBody>
        </p:sp>
        <p:sp>
          <p:nvSpPr>
            <p:cNvPr id="179" name="Oval 4"/>
            <p:cNvSpPr/>
            <p:nvPr/>
          </p:nvSpPr>
          <p:spPr>
            <a:xfrm>
              <a:off x="4267080" y="3429000"/>
              <a:ext cx="60984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cccc"/>
                </a:solidFill>
                <a:latin typeface="Times New Roman"/>
              </a:endParaRPr>
            </a:p>
          </p:txBody>
        </p:sp>
        <p:pic>
          <p:nvPicPr>
            <p:cNvPr id="180" name="Picture 5" descr="anbird1"/>
            <p:cNvPicPr/>
            <p:nvPr/>
          </p:nvPicPr>
          <p:blipFill>
            <a:blip r:embed="rId1"/>
            <a:stretch/>
          </p:blipFill>
          <p:spPr>
            <a:xfrm>
              <a:off x="3886200" y="2362320"/>
              <a:ext cx="126828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Rumen Biotechn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of knowledge of fore stomach fermentation and the use and management of both natural and recombinant microorganisms to improve the efficiency of digestion of fibrous feedstuffs by rumina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(Cunningham, 1990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Ruminants …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uminant is any hooved animal that digests its food in two step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By eating the raw material and regurgitating a semi digested form known as c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hen eating the cud, a process called ru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minants share another common feature that they all have an even number of t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are: cattle, goat, sheep, camel, giraffe, buffalo and dear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Digestive tract of Ruminants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RUMEN"/>
          <p:cNvPicPr/>
          <p:nvPr/>
        </p:nvPicPr>
        <p:blipFill>
          <a:blip r:embed="rId1"/>
          <a:stretch/>
        </p:blipFill>
        <p:spPr>
          <a:xfrm>
            <a:off x="2666880" y="2066760"/>
            <a:ext cx="59436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eycomb 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ion of food bo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urgitation initia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s hardware (nails, w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vivo.colostate.e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352680" y="457200"/>
            <a:ext cx="26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Reticulum</a:t>
            </a:r>
            <a:endParaRPr b="0" lang="en-US" sz="4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34" name="Picture 6" descr="reticulum honeycomb"/>
          <p:cNvPicPr/>
          <p:nvPr/>
        </p:nvPicPr>
        <p:blipFill>
          <a:blip r:embed="rId1"/>
          <a:stretch/>
        </p:blipFill>
        <p:spPr>
          <a:xfrm>
            <a:off x="5791320" y="2133720"/>
            <a:ext cx="3163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estion and fermentation 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anaerobic micro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illae 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 of V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Rume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7" name="Picture 5" descr="rumen papillae"/>
          <p:cNvPicPr/>
          <p:nvPr/>
        </p:nvPicPr>
        <p:blipFill>
          <a:blip r:embed="rId1"/>
          <a:stretch/>
        </p:blipFill>
        <p:spPr>
          <a:xfrm>
            <a:off x="5562720" y="3124080"/>
            <a:ext cx="3392280" cy="281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672200" y="6278400"/>
            <a:ext cx="42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vivo.colostate.e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minae/manyply 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cular f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s partic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 of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 of V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vivo.colostate.e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Omas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23520" y="1828800"/>
            <a:ext cx="7581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gastric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olytic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tric di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pH from 6 to 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atures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ls bacteria and path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olves minerals (e.g., C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vivo.colostate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bomas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6:11:20Z</dcterms:created>
  <dc:creator> Annu Yadav, Paras Yadav and Hariom Yadav </dc:creator>
  <dc:description/>
  <dc:language>en-US</dc:language>
  <cp:lastModifiedBy>Eugene Shubnikov</cp:lastModifiedBy>
  <dcterms:modified xsi:type="dcterms:W3CDTF">2010-01-19T19:51:50Z</dcterms:modified>
  <cp:revision>76</cp:revision>
  <dc:subject/>
  <dc:title> RUMEN BIOTECHNOLOGY</dc:title>
</cp:coreProperties>
</file>