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CFA0-EA4A-4EF8-8416-E8863CBE7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409392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7262-4BEF-4570-A946-A724E02AE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32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47BD-19BC-4314-A344-45B7FC89B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1924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1924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AC76-D345-461D-A9A9-30848A70D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B2CB-6C40-47AB-B112-77F53BF1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884E-F822-4E20-8899-6BDBB5D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4909-A0FD-4F11-8AFE-37242EB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BCC03-3538-4206-AF26-4D04E1E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667DA-8119-41CF-960A-CF05348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5266B-EBF0-45EE-90DE-23AC749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D10D-AE4A-4D49-9820-3C675A4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9689-965F-4E19-B787-D3336A7AB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0632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83BD-87AD-46C1-AA33-4F317D8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D60BA-BBC2-4B92-9B39-83F0F36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409392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0E3E9-54D9-4998-8FB7-AD8C5F32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0632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36EE9-4024-4BB4-9F08-77672A43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1924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09880" y="190476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1924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09880" y="4093920"/>
            <a:ext cx="2562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19BA-364C-4A3F-93F2-AF1B0376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CE67-02B0-400B-969B-FA57BB962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F5C1-5EF6-436A-8D30-E1F409818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CD7E-073F-44E3-A927-E4E20B598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9514-726B-481E-986F-BF22CFE2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A1D3-09B7-40D5-AC81-53100C9E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320" y="409392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A54A-09CD-4873-A87D-8AB8DAC1D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320" y="1904760"/>
            <a:ext cx="3883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93920"/>
            <a:ext cx="79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6F2D-5B4C-40F8-9F3F-22A5CE32E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72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5638320" y="6400800"/>
            <a:ext cx="219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2CC7-AD65-4387-AE0C-06AFF01A635C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28080" y="0"/>
            <a:ext cx="101592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2860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 algn="r" rtl="1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 algn="r" rtl="1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 algn="r" rtl="1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 algn="r" rtl="1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 algn="r" rtl="1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8128080" y="0"/>
            <a:ext cx="1015920" cy="1066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9480" y="1143000"/>
            <a:ext cx="723924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47a3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07400" y="6172200"/>
            <a:ext cx="2308680" cy="564840"/>
          </a:xfrm>
          <a:custGeom>
            <a:avLst/>
            <a:gdLst>
              <a:gd name="textAreaLeft" fmla="*/ 527040 w 2308680"/>
              <a:gd name="textAreaRight" fmla="*/ 1781640 w 2308680"/>
              <a:gd name="textAreaTop" fmla="*/ 128880 h 564840"/>
              <a:gd name="textAreaBottom" fmla="*/ 435960 h 56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cap="sq"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2B1-3A84-4E1C-8D5A-05E8F55FBD83}" type="slidenum">
              <a:rPr b="1" lang="ar-SA" sz="1400" spc="-1" strike="noStrike">
                <a:solidFill>
                  <a:srgbClr val="ff9900"/>
                </a:solidFill>
                <a:latin typeface="Times New Roman"/>
                <a:ea typeface="Homa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8006-17E8-4684-9AE7-C2612F4C809A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6840" y="16761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52388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743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128080" y="0"/>
            <a:ext cx="101592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 rtl="1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 rtl="1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 rtl="1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ي پروتئيني -  لكتين‌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كتين‌ها گروهي از تركيبات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گ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کوپروت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هستند كه در بافتهاي گياه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خصوصا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گومينه 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فت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ند و توانا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ه هم چسباندن گلبول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قرمز خون جانوران مختلف را دار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وع قند موجود در تركيبات آنها بر حسب نوع لكتين متفاوت است، براي مث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 قند لكتين سويا از نوع مانوز مي‌باشد.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اثير لكتين اختصاصي بوده و قابليت مضر بودن لكتين بستگي به نوع حيوان دارد، مثلاً لكتين موجود در نخود هر چند براي خوك مضر است؛ ليكن براي موش ضرري ندار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جه سميت لكتين‌ها متفاوت بوده و حتي بعضي از آنها مثل لكتين موجود در گوجه فرنگي اصلا سمي نمي‌باش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39560"/>
            <a:ext cx="73152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چگونگي عمل لكتين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ثر ضد مغذي لكتين بيشتر به علت تركيب و چسبندگي آن با موكوس ديواره روده است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صدمه زدن به سلول‌هاي ديواره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ثر سوء بر جذب مواد مغذي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كاهش فعاليت آنزيم‌هاي ديواره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و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رشح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یادی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روتئين‌هاي داخلي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توليد بيش از حد موكو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ز دست رفتن پروتئين پلاسما در لومن روده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ها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لكتين فعاليت روده را افزايش داده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عث بزرگ شدن روده مي‌گردد.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واد مغذ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صر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، بر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زرگ شدن روده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.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رشد غ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ر طب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و برگشت ناپذ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ر رود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1600200"/>
            <a:ext cx="5625720" cy="5257800"/>
            <a:chOff x="762120" y="1600200"/>
            <a:chExt cx="5625720" cy="5257800"/>
          </a:xfrm>
        </p:grpSpPr>
        <p:grpSp>
          <p:nvGrpSpPr>
            <p:cNvPr id="149" name=""/>
            <p:cNvGrpSpPr/>
            <p:nvPr/>
          </p:nvGrpSpPr>
          <p:grpSpPr>
            <a:xfrm>
              <a:off x="2184840" y="2328120"/>
              <a:ext cx="3603240" cy="3138120"/>
              <a:chOff x="2184840" y="2328120"/>
              <a:chExt cx="3603240" cy="3138120"/>
            </a:xfrm>
          </p:grpSpPr>
          <p:sp>
            <p:nvSpPr>
              <p:cNvPr id="150" name=""/>
              <p:cNvSpPr/>
              <p:nvPr/>
            </p:nvSpPr>
            <p:spPr>
              <a:xfrm>
                <a:off x="2336760" y="2328120"/>
                <a:ext cx="0" cy="31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85200" y="5349960"/>
                <a:ext cx="348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184840" y="2328120"/>
                <a:ext cx="15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184840" y="3073680"/>
                <a:ext cx="15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184840" y="3839040"/>
                <a:ext cx="15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184840" y="4652640"/>
                <a:ext cx="15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7680" y="53499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71440" y="53499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53499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89240" y="5245920"/>
                <a:ext cx="8892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97680" y="4816440"/>
                <a:ext cx="8928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11440" y="3955320"/>
                <a:ext cx="8892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76480" y="2840400"/>
                <a:ext cx="8928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36760" y="4851360"/>
                <a:ext cx="1114560" cy="428400"/>
              </a:xfrm>
              <a:custGeom>
                <a:avLst/>
                <a:gdLst/>
                <a:ahLst/>
                <a:rect l="l" t="t" r="r" b="b"/>
                <a:pathLst>
                  <a:path w="1059" h="531">
                    <a:moveTo>
                      <a:pt x="0" y="531"/>
                    </a:moveTo>
                    <a:lnTo>
                      <a:pt x="105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48080" y="3986640"/>
                <a:ext cx="1016640" cy="859320"/>
              </a:xfrm>
              <a:custGeom>
                <a:avLst/>
                <a:gdLst/>
                <a:ahLst/>
                <a:rect l="l" t="t" r="r" b="b"/>
                <a:pathLst>
                  <a:path w="966" h="1065">
                    <a:moveTo>
                      <a:pt x="0" y="1065"/>
                    </a:moveTo>
                    <a:lnTo>
                      <a:pt x="9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8600" y="2870280"/>
                <a:ext cx="1269360" cy="1118520"/>
              </a:xfrm>
              <a:custGeom>
                <a:avLst/>
                <a:gdLst/>
                <a:ahLst/>
                <a:rect l="l" t="t" r="r" b="b"/>
                <a:pathLst>
                  <a:path w="1206" h="1386">
                    <a:moveTo>
                      <a:pt x="0" y="1386"/>
                    </a:moveTo>
                    <a:lnTo>
                      <a:pt x="120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3362760" y="4514760"/>
                <a:ext cx="151560" cy="697320"/>
                <a:chOff x="3362760" y="4514760"/>
                <a:chExt cx="151560" cy="6973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441600" y="4514760"/>
                  <a:ext cx="0" cy="69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362760" y="451476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362760" y="521208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376520" y="3700800"/>
                <a:ext cx="151560" cy="581040"/>
                <a:chOff x="4376520" y="3700800"/>
                <a:chExt cx="151560" cy="581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455360" y="3700800"/>
                  <a:ext cx="0" cy="58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376520" y="428184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76520" y="370080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636520" y="2703240"/>
                <a:ext cx="151560" cy="348480"/>
                <a:chOff x="5636520" y="2703240"/>
                <a:chExt cx="151560" cy="348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715360" y="2703240"/>
                  <a:ext cx="0" cy="34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36520" y="305172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636520" y="2703240"/>
                  <a:ext cx="15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238720" y="2797560"/>
                <a:ext cx="94320" cy="310320"/>
                <a:chOff x="5238720" y="2797560"/>
                <a:chExt cx="94320" cy="310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288760" y="2991240"/>
                  <a:ext cx="0" cy="11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85880" y="2799720"/>
                  <a:ext cx="0" cy="11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38720" y="3107160"/>
                  <a:ext cx="94320" cy="720"/>
                </a:xfrm>
                <a:custGeom>
                  <a:avLst/>
                  <a:gdLst/>
                  <a:ahLst/>
                  <a:rect l="l" t="t" r="r" b="b"/>
                  <a:pathLst>
                    <a:path w="90" h="1">
                      <a:moveTo>
                        <a:pt x="0" y="0"/>
                      </a:moveTo>
                      <a:lnTo>
                        <a:pt x="9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238720" y="2797560"/>
                  <a:ext cx="94320" cy="720"/>
                </a:xfrm>
                <a:custGeom>
                  <a:avLst/>
                  <a:gdLst/>
                  <a:ahLst/>
                  <a:rect l="l" t="t" r="r" b="b"/>
                  <a:pathLst>
                    <a:path w="90" h="1">
                      <a:moveTo>
                        <a:pt x="0" y="0"/>
                      </a:moveTo>
                      <a:lnTo>
                        <a:pt x="9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240520" y="2918520"/>
                  <a:ext cx="89280" cy="6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762120" y="1600200"/>
              <a:ext cx="253548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cs typeface="B Zar"/>
                </a:rPr>
                <a:t>وزن خشك روده كوچك</a:t>
              </a: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ea typeface="B Zar"/>
                </a:rPr>
                <a:t> 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ea typeface="B Zar"/>
                </a:rPr>
                <a:t>(</a:t>
              </a: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cs typeface="B Zar"/>
                </a:rPr>
                <a:t>گرم در </a:t>
              </a: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ea typeface="B Zar"/>
                </a:rPr>
                <a:t>100</a:t>
              </a: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ea typeface="B Zar"/>
                </a:rPr>
                <a:t> گرم وزن بدن</a:t>
              </a:r>
              <a:r>
                <a:rPr b="0" lang="ar-SA" sz="1800" spc="-1" strike="noStrike">
                  <a:solidFill>
                    <a:srgbClr val="003366"/>
                  </a:solidFill>
                  <a:latin typeface="B Zar"/>
                  <a:ea typeface="B Zar"/>
                </a:rPr>
                <a:t>)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8840" y="546624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4040" y="544212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36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9240" y="544212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8320" y="545436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0" y="523368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6520" y="373500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8200" y="2235960"/>
              <a:ext cx="4546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698800"/>
              <a:ext cx="49608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مصرف و جذب لكتين</a:t>
              </a:r>
              <a:r>
                <a:rPr b="0" lang="ar-SA" sz="1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(PHA) </a:t>
              </a: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Phaseolus vulgaris</a:t>
              </a:r>
              <a:r>
                <a:rPr b="0" lang="ar-SA" sz="1800" spc="-1" strike="noStrike">
                  <a:solidFill>
                    <a:srgbClr val="003366"/>
                  </a:solidFill>
                  <a:latin typeface="Times New Roman"/>
                </a:rPr>
                <a:t>، 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mg/rat/d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39560"/>
            <a:ext cx="73152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ي پروتئيني -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تانن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صطلاح تانن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Tannin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 براي اولين بار در سال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1796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توسط سيگوين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Seguin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در تشريح مواد استخراج شده از بعضي گياهان  كه مي‌توانستند در روند تبديل پوست حيوانات به چرم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Tanning process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نقش به سزائي داشته باشند، بكارگرفته شد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ركيبات پيچيده طبيعي با وزن مولكولي بالا (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500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تا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3000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دالتون) هستند كه از مواد شيميايي پلي‌فنلي 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شكيل شده‌اند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ر پوست، برگ، ريشة اكثر گياهان از جمله چاي، سيب، هلو، غلات و خصوصا به وفور در سورگم يافت مي‌شوند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ارا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مزه تلخ و گس مي‌باشند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(خاصيت گسي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Astringency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: گسي شدن حس جمع شدن و چين خوردن زبان است كه به خاطر اتصال عرضي گليكوپروتئين ها و پروتئين ها توسط تانن‌ها صورت مي‌گيرد.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خ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صيت گسي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وجب مقبوليت بعضي از مواد غذايي مثل چاي، آبجو، كاكائو و شكلات  مي‌گردد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زه گس بعضي ميوه‌هاي نارس چون خرما، توت، خرمالو و نارگيل نيز به دليل تانن است ليكن بر اثر رسيدن ميوه تركيب تانن منعقد گرديده (نه اينكه از بين رود)، بصورت نامحلول در آمده، در نتيجه خاصيت گسي و قابضي خود را از دست مي‌دهد. 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5094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خواص ضد تغذ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ه 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تانن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تركيب با پروتئين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زدارندگي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هضم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ختل شدن فعال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 آنز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 ها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کاهش ارزش مغذ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ودن و انرز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زا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مواد مصرف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اهش اشتها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خشك شدن دهان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خارش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صدمه به مجراي دستگاه گوارش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زخم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ردن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سا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گ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ضخ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 کردن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کاهش قابل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 هضم مواد مغذ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عبور تانن از دستگاه گوارش </a:t>
            </a:r>
            <a:r>
              <a:rPr b="1" lang="ar-SA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مسموم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ختلال در بهره وري از محتويات معدني، خصوصا كلسيم و آهن مواد خوراك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شکالات اسکلت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64040" indent="-4640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ختلال در کم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 و ک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ف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 تخم مرغها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تول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مرغها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تخمگذار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9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1c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بازدازنده هاي پروتئيني</a:t>
            </a:r>
            <a:r>
              <a:rPr b="0" lang="en-US" sz="3200" spc="-1" strike="noStrike">
                <a:solidFill>
                  <a:srgbClr val="003366"/>
                </a:solidFill>
                <a:latin typeface="B Zar"/>
                <a:ea typeface="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- </a:t>
            </a: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ساپونين‌‌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ساپونين‌ها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aponins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)  گلوكوزيدهايي هستند كه در بسياري از منابع گياهي چون شبدر و يونجه به وفور يافت مي شوند. 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هر چند ساپونين‌ها به گروهي از مواد با ساختار شيميائي مختلف اطلاق مي گردد، ليكن به خاطر خاصيت مشابه كف زايي آنها،  در اصل از لغت انگليسي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Soap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  گرفته شده است كه همان صابون است، تماماً در يك گروه قرار گرفته اند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ساپونين‌ها خواص ويژه اي دارند، طعم تلخ، تشكيل كف در محلول هاي آبي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ous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) و هموليز كردن سلولهاي قرمز خون از جمله ويژگي‌هاي منحصر بفرد آنها مي باشد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5094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وارض ناش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از مصرف منابع ساپو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ن دا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در نشخواركنندگان توليد حباب‌هاي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گ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ازي حاصل از تخمير مواد غذائي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منجر به نفخ مي گردد.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کاهش فعال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 آنز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مها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وانائي تشكيل تركيبات با كلسترول داشته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كاهش بي رويه كلسترول خون مي شوند.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شكيل تركيبات پيچيده با استرول ها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(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منجمله استرول ها غشا  سلولي پلاسما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)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کاهش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قابليت نفوذ پذيري سلول ها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اختلال در سلول هاي كلية بافت‌ها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اختلال در موكوس هاي سلول ديواره روده كوچك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 باعث جلوگيري از تحرك، تبادل و انتقال مواد مغذي از ديواره روده مي شود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نفس، تشديد و غير منظم مي‌گردد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قابليت نفوذ پذيري سلول‌ها را تغيير داده و منجر به مسموميت زايي مي‌شود. 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افزايش ترشح بزاق، استفراغ و اسهال مي گردد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عملكرد كبد و كليه اختلال ايجاد مي‌كند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66640" indent="-56664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لخ بوده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 کاهش اشتها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خوراک مصرفی </a:t>
            </a:r>
            <a:r>
              <a:rPr b="0" lang="ar-SA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رشد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20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7a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وارض ناش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از مصرف منابع ساپو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ن دا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80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طيور حساسيت زيادي به ساپونين ها دارند. حضور 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20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% يونجه در جيره طيور، مي تواند معادل 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3/0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% ساپونين داشته باشد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موجب كاهش شديد رشد مي‌گردد، همين مقدار در خوراك خوك تاثير بسزايي ندارد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just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كاهش توليد تخم مرغ در مرغ هاي تخم‌گذار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78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اسيدهاي آمينه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غير پروتئين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هاي آمينه غير پروتئيني داراي اثرات سمي يا ضد مغذي هست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عمدتا در گياهان تيره بقولات يافت مي شوند. بيشتر تراكم در دانه ا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غالبا به شكل غير تركيبي در گياهان ه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ه خاطر شباهت ساختماني به اسيدهاي  آمينه اصلي در سوخت وساز اسيدهاي آمينه ضروري اختلال ايجاد مي كن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كاناونين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</a:rPr>
              <a:t>،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كانالين و ايندوسپيسين از جمله اسيدهاي آمينه غيرپروتئيني شناخته شده‌ هست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كاناواني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9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ز لحاظ ساختاري شبيه آرژنين است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رقابت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جذب آرژنين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جايگزين آرژنين در ساختمان پروتئين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توليد پروتئين هاي غير عادي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تخريب ساختمان پروتئين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عدم كارايي پروتئين ها در انجام فعاليت ها و اعمال طبيع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به عنوان يك سوبسترا براي آنزيم‌هاي استفاده كننده از آرژنين نظير آرژيناز مطرح است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با آرژنين رقابت نموده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از فعاليت آنزيمهاي دخيل در سوخت و ساز آرژنين ممانعت كند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به صورت غير رقابتي از فعاليت آنزيمهايي نظير دهيدروژناز, بتاگلوكوسيداز و اكسي نيتريلاز ممانعت كند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كاهش توليد كراتين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هش قدرت ايمني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كاناوانين در اثر سوخت و ساز به كانالاين تبديل مي شود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بازدارندگي آنزيم ارينتين كربوكسيلاز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ه در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ساخته شدن تركيبات چندآميني (كه براي تنضيم ساخت پروتئين ضروري مي باشند)   نقش دارد.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003366"/>
                </a:solidFill>
                <a:latin typeface="B Badr"/>
                <a:cs typeface="B Badr"/>
              </a:rPr>
              <a:t>بسم الله الرحمن الرحيم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روش ها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خنثي سازي اثر بازدارنده‌هاي ضد آنزيمي پروتئا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080" y="42224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ست كردن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پختن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جوشاندن در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آ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ب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شعشع با گاما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ادون قرمز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يكروويو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ست كردن خشك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قابليت اثر گذاري اين روشها به مقدار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رطوبت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  <a:ea typeface="B Zar"/>
              </a:rPr>
              <a:t>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،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اندازه اجسا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شدت دما</a:t>
            </a: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و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مدت زمان حرارت دهي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بستگي دارد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964080"/>
            <a:ext cx="761976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صلاح نژاد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کانولا که واریته اصلاح شده منداب است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ي شيميايي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فزودن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آنزيم, خيساندن در محلولهاي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نمکی ,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ي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ي فيزيكي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–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كانيكي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جدا کردن بوسته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غذیه ای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ضافه کردن ید به منابع حاوی گلوکوزینولاتها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نبارداری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نگهداری سورگوم در .....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ی حرارتی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9360"/>
            <a:ext cx="73152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اثر حرارت بر فعال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ت محدود کننده 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ن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و 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زان بهره و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پروتئ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ن موجود در کنجاله سو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ا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مصرف شده در مو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2280" y="1898640"/>
            <a:ext cx="8686440" cy="4959000"/>
            <a:chOff x="152280" y="1898640"/>
            <a:chExt cx="8686440" cy="4959000"/>
          </a:xfrm>
        </p:grpSpPr>
        <p:grpSp>
          <p:nvGrpSpPr>
            <p:cNvPr id="212" name=""/>
            <p:cNvGrpSpPr/>
            <p:nvPr/>
          </p:nvGrpSpPr>
          <p:grpSpPr>
            <a:xfrm>
              <a:off x="1166760" y="2411280"/>
              <a:ext cx="4435920" cy="3078000"/>
              <a:chOff x="1166760" y="2411280"/>
              <a:chExt cx="4435920" cy="30780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166760" y="2446560"/>
                <a:ext cx="215640" cy="171000"/>
                <a:chOff x="1166760" y="2446560"/>
                <a:chExt cx="215640" cy="171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47400" y="251064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166760" y="244656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1495080" y="422064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1279080" y="2411280"/>
                <a:ext cx="4323600" cy="3078000"/>
                <a:chOff x="1279080" y="2411280"/>
                <a:chExt cx="4323600" cy="30780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283400" y="2411280"/>
                  <a:ext cx="4319280" cy="30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283400" y="4630680"/>
                  <a:ext cx="261000" cy="3240"/>
                </a:xfrm>
                <a:custGeom>
                  <a:avLst/>
                  <a:gdLst/>
                  <a:ahLst/>
                  <a:rect l="l" t="t" r="r" b="b"/>
                  <a:pathLst>
                    <a:path w="174" h="3">
                      <a:moveTo>
                        <a:pt x="0" y="3"/>
                      </a:moveTo>
                      <a:lnTo>
                        <a:pt x="17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283400" y="4114080"/>
                  <a:ext cx="265320" cy="720"/>
                </a:xfrm>
                <a:custGeom>
                  <a:avLst/>
                  <a:gdLst/>
                  <a:ahLst/>
                  <a:rect l="l" t="t" r="r" b="b"/>
                  <a:pathLst>
                    <a:path w="177" h="1">
                      <a:moveTo>
                        <a:pt x="0" y="0"/>
                      </a:moveTo>
                      <a:lnTo>
                        <a:pt x="17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83400" y="3526200"/>
                  <a:ext cx="261000" cy="3240"/>
                </a:xfrm>
                <a:custGeom>
                  <a:avLst/>
                  <a:gdLst/>
                  <a:ahLst/>
                  <a:rect l="l" t="t" r="r" b="b"/>
                  <a:pathLst>
                    <a:path w="174" h="3">
                      <a:moveTo>
                        <a:pt x="0" y="3"/>
                      </a:moveTo>
                      <a:lnTo>
                        <a:pt x="17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283400" y="2895480"/>
                  <a:ext cx="130320" cy="3240"/>
                </a:xfrm>
                <a:custGeom>
                  <a:avLst/>
                  <a:gdLst/>
                  <a:ahLst/>
                  <a:rect l="l" t="t" r="r" b="b"/>
                  <a:pathLst>
                    <a:path w="87" h="3">
                      <a:moveTo>
                        <a:pt x="0" y="3"/>
                      </a:moveTo>
                      <a:lnTo>
                        <a:pt x="8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83360" y="5118480"/>
                  <a:ext cx="319320" cy="1080"/>
                </a:xfrm>
                <a:custGeom>
                  <a:avLst/>
                  <a:gdLst/>
                  <a:ahLst/>
                  <a:rect l="l" t="t" r="r" b="b"/>
                  <a:pathLst>
                    <a:path w="213" h="1">
                      <a:moveTo>
                        <a:pt x="0" y="0"/>
                      </a:moveTo>
                      <a:lnTo>
                        <a:pt x="213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8720" y="4495320"/>
                  <a:ext cx="363960" cy="4680"/>
                </a:xfrm>
                <a:custGeom>
                  <a:avLst/>
                  <a:gdLst/>
                  <a:ahLst/>
                  <a:rect l="l" t="t" r="r" b="b"/>
                  <a:pathLst>
                    <a:path w="243" h="4">
                      <a:moveTo>
                        <a:pt x="0" y="0"/>
                      </a:moveTo>
                      <a:lnTo>
                        <a:pt x="243" y="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29360" y="2582280"/>
                  <a:ext cx="373320" cy="720"/>
                </a:xfrm>
                <a:custGeom>
                  <a:avLst/>
                  <a:gdLst/>
                  <a:ahLst/>
                  <a:rect l="l" t="t" r="r" b="b"/>
                  <a:pathLst>
                    <a:path w="249" h="1">
                      <a:moveTo>
                        <a:pt x="0" y="0"/>
                      </a:moveTo>
                      <a:lnTo>
                        <a:pt x="249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43040" y="3184200"/>
                  <a:ext cx="359640" cy="720"/>
                </a:xfrm>
                <a:custGeom>
                  <a:avLst/>
                  <a:gdLst/>
                  <a:ahLst/>
                  <a:rect l="l" t="t" r="r" b="b"/>
                  <a:pathLst>
                    <a:path w="240" h="1">
                      <a:moveTo>
                        <a:pt x="0" y="0"/>
                      </a:moveTo>
                      <a:lnTo>
                        <a:pt x="24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70040" y="3811320"/>
                  <a:ext cx="332640" cy="4680"/>
                </a:xfrm>
                <a:custGeom>
                  <a:avLst/>
                  <a:gdLst/>
                  <a:ahLst/>
                  <a:rect l="l" t="t" r="r" b="b"/>
                  <a:pathLst>
                    <a:path w="222" h="4">
                      <a:moveTo>
                        <a:pt x="0" y="0"/>
                      </a:moveTo>
                      <a:lnTo>
                        <a:pt x="222" y="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49680" y="4805280"/>
                  <a:ext cx="153000" cy="3240"/>
                </a:xfrm>
                <a:custGeom>
                  <a:avLst/>
                  <a:gdLst/>
                  <a:ahLst/>
                  <a:rect l="l" t="t" r="r" b="b"/>
                  <a:pathLst>
                    <a:path w="102" h="3">
                      <a:moveTo>
                        <a:pt x="102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41040" y="4121280"/>
                  <a:ext cx="161640" cy="3240"/>
                </a:xfrm>
                <a:custGeom>
                  <a:avLst/>
                  <a:gdLst/>
                  <a:ahLst/>
                  <a:rect l="l" t="t" r="r" b="b"/>
                  <a:pathLst>
                    <a:path w="108" h="3">
                      <a:moveTo>
                        <a:pt x="108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3040" y="3490560"/>
                  <a:ext cx="157320" cy="1080"/>
                </a:xfrm>
                <a:custGeom>
                  <a:avLst/>
                  <a:gdLst/>
                  <a:ahLst/>
                  <a:rect l="l" t="t" r="r" b="b"/>
                  <a:pathLst>
                    <a:path w="105" h="1">
                      <a:moveTo>
                        <a:pt x="105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23040" y="2852640"/>
                  <a:ext cx="179640" cy="3600"/>
                </a:xfrm>
                <a:custGeom>
                  <a:avLst/>
                  <a:gdLst/>
                  <a:ahLst/>
                  <a:rect l="l" t="t" r="r" b="b"/>
                  <a:pathLst>
                    <a:path w="120" h="3">
                      <a:moveTo>
                        <a:pt x="120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737720" y="5361120"/>
                  <a:ext cx="1440" cy="110160"/>
                </a:xfrm>
                <a:custGeom>
                  <a:avLst/>
                  <a:gdLst/>
                  <a:ahLst/>
                  <a:rect l="l" t="t" r="r" b="b"/>
                  <a:pathLst>
                    <a:path w="1" h="93">
                      <a:moveTo>
                        <a:pt x="0" y="0"/>
                      </a:moveTo>
                      <a:lnTo>
                        <a:pt x="1" y="9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14740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579040" y="5350320"/>
                  <a:ext cx="1440" cy="138600"/>
                </a:xfrm>
                <a:custGeom>
                  <a:avLst/>
                  <a:gdLst/>
                  <a:ahLst/>
                  <a:rect l="l" t="t" r="r" b="b"/>
                  <a:pathLst>
                    <a:path w="1" h="117">
                      <a:moveTo>
                        <a:pt x="0" y="0"/>
                      </a:moveTo>
                      <a:lnTo>
                        <a:pt x="1" y="11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5904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13504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79080" y="2500200"/>
                  <a:ext cx="3797280" cy="2774880"/>
                </a:xfrm>
                <a:custGeom>
                  <a:avLst/>
                  <a:gdLst/>
                  <a:ahLst/>
                  <a:rect l="l" t="t" r="r" b="b"/>
                  <a:pathLst>
                    <a:path w="2532" h="2337">
                      <a:moveTo>
                        <a:pt x="0" y="0"/>
                      </a:moveTo>
                      <a:cubicBezTo>
                        <a:pt x="48" y="131"/>
                        <a:pt x="219" y="609"/>
                        <a:pt x="291" y="789"/>
                      </a:cubicBezTo>
                      <a:cubicBezTo>
                        <a:pt x="363" y="969"/>
                        <a:pt x="339" y="957"/>
                        <a:pt x="435" y="1077"/>
                      </a:cubicBezTo>
                      <a:cubicBezTo>
                        <a:pt x="531" y="1197"/>
                        <a:pt x="675" y="1365"/>
                        <a:pt x="867" y="1509"/>
                      </a:cubicBezTo>
                      <a:cubicBezTo>
                        <a:pt x="1059" y="1653"/>
                        <a:pt x="1347" y="1821"/>
                        <a:pt x="1587" y="1941"/>
                      </a:cubicBezTo>
                      <a:cubicBezTo>
                        <a:pt x="1827" y="2061"/>
                        <a:pt x="2149" y="2163"/>
                        <a:pt x="2307" y="2229"/>
                      </a:cubicBezTo>
                      <a:cubicBezTo>
                        <a:pt x="2465" y="2295"/>
                        <a:pt x="2485" y="2315"/>
                        <a:pt x="2532" y="233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211760" y="4581000"/>
                <a:ext cx="127080" cy="10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79080" y="2667600"/>
                <a:ext cx="3882960" cy="1966320"/>
              </a:xfrm>
              <a:custGeom>
                <a:avLst/>
                <a:gdLst/>
                <a:ahLst/>
                <a:rect l="l" t="t" r="r" b="b"/>
                <a:pathLst>
                  <a:path w="2589" h="1656">
                    <a:moveTo>
                      <a:pt x="0" y="1656"/>
                    </a:moveTo>
                    <a:cubicBezTo>
                      <a:pt x="276" y="1212"/>
                      <a:pt x="552" y="768"/>
                      <a:pt x="720" y="504"/>
                    </a:cubicBezTo>
                    <a:cubicBezTo>
                      <a:pt x="888" y="240"/>
                      <a:pt x="888" y="144"/>
                      <a:pt x="1008" y="72"/>
                    </a:cubicBezTo>
                    <a:cubicBezTo>
                      <a:pt x="1128" y="0"/>
                      <a:pt x="1177" y="61"/>
                      <a:pt x="1440" y="72"/>
                    </a:cubicBezTo>
                    <a:cubicBezTo>
                      <a:pt x="1703" y="83"/>
                      <a:pt x="2350" y="127"/>
                      <a:pt x="2589" y="14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6640" y="346068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73640" y="2823120"/>
                <a:ext cx="12708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95280" y="268164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16960" y="278856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05080" y="2924280"/>
                <a:ext cx="215640" cy="171000"/>
                <a:chOff x="1405080" y="2924280"/>
                <a:chExt cx="215640" cy="1710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485720" y="29883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405080" y="29242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985760" y="3843360"/>
                <a:ext cx="215640" cy="171000"/>
                <a:chOff x="1985760" y="3843360"/>
                <a:chExt cx="215640" cy="171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066400" y="390744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985760" y="384336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838400" y="5136480"/>
                <a:ext cx="215640" cy="171000"/>
                <a:chOff x="4838400" y="5136480"/>
                <a:chExt cx="215640" cy="171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919040" y="52005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8400" y="51364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335760" y="4634280"/>
                <a:ext cx="215640" cy="171000"/>
                <a:chOff x="3335760" y="4634280"/>
                <a:chExt cx="215640" cy="1710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416400" y="46983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35760" y="46342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597400" y="4256640"/>
                <a:ext cx="215640" cy="171000"/>
                <a:chOff x="2597400" y="4256640"/>
                <a:chExt cx="215640" cy="171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678040" y="432072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597400" y="425664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152280" y="2068920"/>
              <a:ext cx="2376000" cy="47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فعاليت بازدارندگي تريپسين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 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(TIU/mg)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	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63080" y="1898640"/>
              <a:ext cx="2375640" cy="47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ميزان بهره‌وري پروتئين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(PER)</a:t>
              </a:r>
              <a:r>
                <a:rPr b="0" lang="fa-IR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	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78360" y="5916960"/>
              <a:ext cx="42674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</a:rPr>
                <a:t>100°C 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مدت زمان نگهداري به دقيقه در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3040" y="277848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8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440" y="227556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3040" y="340128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3040" y="3986640"/>
              <a:ext cx="6487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9360" y="4516920"/>
              <a:ext cx="648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2440" y="5535720"/>
              <a:ext cx="648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36760" y="554292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7680" y="5542920"/>
              <a:ext cx="648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91040" y="554292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12720" y="5561640"/>
              <a:ext cx="648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01320" y="5561640"/>
              <a:ext cx="648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54440" y="497664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.5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32120" y="436356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.9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4440" y="367308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.3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32120" y="302400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.7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23480" y="2447640"/>
              <a:ext cx="646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34040" y="475956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(TIU)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6720" y="2868120"/>
              <a:ext cx="98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(PER)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مواد ضد مغذي در منابع پروتئين حيواني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9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حرارت دادن بودر ماهی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گیزروسین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گیزروسین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فرسایش ، زخمی کردن و خونریزی سنگدان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ستفراق سیاه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سوراخ شدن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تلف شدن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حداکثر غلظت قابل تحمل ال-گیزروسین در جیره های عملی باید کمتر از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4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/. قسمت در میلیون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قهوه ا</a:t>
            </a:r>
            <a:r>
              <a:rPr b="0" lang="ar-SA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600" spc="-1" strike="noStrike">
                <a:solidFill>
                  <a:srgbClr val="003366"/>
                </a:solidFill>
                <a:latin typeface="Times New Roman"/>
                <a:ea typeface="Homa"/>
              </a:rPr>
              <a:t> شد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اکنش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ارد نوع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ز واکنش 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قهوه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دن در مواد غذ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ت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اکنش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که 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پروت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ها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ها با قندها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لد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 و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کتون ها به دل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نظ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 جوشاندن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حرارت دادن و نگهدا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طولا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دت پروت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ها بوجود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کا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م واکنش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ش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 پ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ند 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گروه کربو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 قند و عامل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آزاد 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ز ش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ف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N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آلدوز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ل آ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1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آ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و-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1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داک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2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کتوز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ظهور دانه ها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قهوه ا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رنگ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عوامل موثر بر وقوع واکنش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ارد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طوبت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ما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pH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وع قند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5094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 ه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چرب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- اسيده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چرب حلقو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نجاله تخم پنبه و کنجاله تخم كابوك از مواد غذائي هستند كه داراي اسيد چرب سليكلو پروپنوئيد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شند.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 چرب سيكليوپروپنوئيد(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CPEFA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)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CH3 – (CH2)x - C = C – (CH2)y – CO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CH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هاي چرب سيك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ل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و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نوئيد بطور معمول شامل اسيد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Sterculic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و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Malvalic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 هستند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ثر تغذيه يا جيره حاوي اسيد چرب سيك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ل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وپيروئي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وجود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CPEFA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جيره طيور باعث فساد در تخم‌گذاري مرغها و تغييرات چشمگ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 فيزيكي و شيميايي در تركيبات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(ا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 چرب)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خم مرغ مي شود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ز علائم ديگر اين اسيد چرب در جيره عبارتند از : تأخير رشد در تخمدان و اويدكت و سپس توقف توليد تخم مرغ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غييرات کيفي در تخم مرغ و کاهش جوجه درآوري در تخم مرغهاي گله هاي مادر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2590920"/>
            <a:ext cx="152640" cy="152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71440" y="2590920"/>
            <a:ext cx="152280" cy="152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8153280" cy="4111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-459720" y="609480"/>
            <a:ext cx="9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توپ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Homa"/>
              </a:rPr>
              <a:t> و سفت شدن زرده تخم مرغ درهنگام تغذيه کنجاله کاپو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80880" y="457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اثر تغذ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ه مقاد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ر مختلف کنجاله کاپوک به مرغها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Homa"/>
              </a:rPr>
              <a:t> تخم گذار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 ه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چرب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- اروسيک اسي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958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بعض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گ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هان تم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ل به ذخ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ره روغن ه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اختصاص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دارند که اغلب مشخصه آنها وجود 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ک 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د چرب اصل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غ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ر معمول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است بر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مثال در دانه گ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هان خانواده منداب 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د ارو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ک فراوان است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د ارو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ک از مواد ز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ن آور موجود در کنجاله منداب محسوب م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 ها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چرب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- فساد و اک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د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ون چرب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عمده 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عامل بازدارنده در استفاده از چر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ها فساد گسترده در آنهاست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فساد در چر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ه دو صورت فساد 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و ش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صورت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فساد 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هم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عامل حرارت است اگرچه به د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 غ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 فعال کردن آن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 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از به عنوا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ک عامل ضد فساد 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 محسوب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فساد ش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و بخصوص اک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ن چر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مجاورت اک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ژن تش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Initiation     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RH  → R* + H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Propagation   R* + O2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→ RO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ROO + RH  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→ ROOH + R*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Termination   R* + R*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→ R 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R* + ROO*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→ RO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وارض ناش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از فساد و اک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د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ون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چرب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958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کاهش انرژی جیره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کاهش ارزش پروتئینی جیره (قهوه ای- میلارد شدن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ز بین رفتن اسیدهای چرب ضرور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از بین رفتن ویتامینها حلال در چرب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عناصر ضد مغذي - </a:t>
            </a:r>
            <a:r>
              <a:rPr b="1" lang="ar-SA" sz="28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وارض ناش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از فساد و اک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داس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ون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چرب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958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110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‌هاي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معد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-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کيلات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958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گياهان موادي هستند كه با عناصر معدني به شكل كمپلكس‌ها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ر پ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ار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آمده و از جذب آنها توسط روده و دسترسي بدن جلوگيري مي كن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 اكساليك 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Oxalic acid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)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-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با كلسيم و آهن موجود تركيب شده و آنها را از دسترس بدن خارج  مي‌سازد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 فايتيك = اينوزيتول هگزا فسفات 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Phytic acid = Inositol hexa phosphate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حدود دو سوم كل فسفر در منابع گياهي به شكل فيتات موجود است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لاتها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ر قابليت دسترسي مواد مغذي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(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عدني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</a:rPr>
              <a:t>،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پروتئين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و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نشاسته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سطوح بالا س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ش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جذب عناصر 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ات شده ثابت تر است و کمتر تحت اثرات من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ر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ط گوارش قرار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لبته نه تنها تمامي كيلات‌ها در روند متابوليسم مضر نمي‌باشد بلكه در بعضي مواقع در علم پزشكي از اين خاصيت براي سم‌زدايي فلزات سنگين استفاده مي‌شو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41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‌هاي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معد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–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گلوكوزينولات‌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گلوكوزينولات‌ها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Glucosinolates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سئول طعم تندي هستند كه به هنگام مصرف گياهان جنس براسيكا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Brassica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چون كلم، خردل و منداب (كلزا) حادث مي گرد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گلوكوزينولات‌ها به همراه آنزيم‌هاي هيدروليز كننده آنها تيوگلوكوزيدا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Thioglucosidas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در كليه بخش‌هاي گياه شامل ريشه، ساقه، برگ و دانه وجود دار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چگونگي تاثير گلوكوزينولات‌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اثير اصلي بيولوژيكي گلوكوزينولات‌ها قابليت تركيب عنصر يد با پيش سازهاي تيروكسين را كاهش داده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,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روند ترشح آنها اختلال بوجود مي‌آورد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,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وجب بزرگ شدن غده تيروئيد مي‌گردند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وجب گواتر مي‌شو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آنزيم هاي هيدروليز كننده‌اي كه به همراه گلوكوزينولات‌ها در منابع خوراكي وجود دارند پس از مصرف، موجب هيدروليز شدن گلوكوزينولات‌ها به گلوكز، سولفات اسيد، تيوسيانات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Thiocyanat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يا ايزوتيوسيانات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Isothiocyanat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و يا نيتريل‌ها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Nitri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مي‌شو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واکنش ه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درول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ز گلوکوز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نولات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3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مشکلات مصرف گلوکوزينولات 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تخم مرغ‌هاي پوست قهوه‌اي كه توسط رود آيلند رد توليد مي‌شوند، حتي اگر مرغ‌ها مقادير بسيار كمي كنجاله منداب (كلزا) مصرف نمايند، طعم ماهي مي‌گير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زه ماهي به توليد تري متيل آمين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Trimethylami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ربط داده شده است كه در مسير  متابوليكي  شكسته شدن گلوكوزينولات‌ها بوجود مي‌آيد. مرغ تخمگذار تخم قهوه‌اي از نظر توليد آنزيم تري متيل آمين اكسيداز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Trimethylamin oxidas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در جگر كمبود داشته و نمي‌تواند ماده مذكور را به تركيبات ديگر تجزيه ك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خون‌ريزي كبد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Liver haemorrhag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) طيور در مواقعي كه كنجاله منداب مصرف نموده اند مشاهده شده است و دليل اين امر را محققين به توليد نيتريل ربط مي‌ده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‌هاي 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معد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–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گوسيپو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95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با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گروه اپسيلون آمين آزاد ليزين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(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آرژنين و سيستئين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)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واكنش داده و سبب دناتوراسيون پروتئين مي‌گردد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ركيب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با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ون‌هاي فلزي مثل آهن 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کاهش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ارزش غذايي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منابع معدن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سبب بدي رنگ و طعم فرآورده‌هاي غذايي مربوطه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رنگ زرده تخم‌مرغ به سبز زيتوني تبديل مي‌شود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کاهش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وليد و اندازه تخم‌مرغ 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ماده‌ای سم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برا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ح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وانات تک معده ا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جلوگيري از فسفوريلاسيون مرحله تنفس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تورم شش‌ها، لاغري مفرط، عدم تحرك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تلف</a:t>
            </a:r>
            <a:r>
              <a:rPr b="0" lang="ar-SA" sz="2200" spc="-1" strike="noStrike">
                <a:solidFill>
                  <a:srgbClr val="003366"/>
                </a:solidFill>
                <a:latin typeface="Times New Roman"/>
                <a:ea typeface="B Zar"/>
              </a:rPr>
              <a:t> شد</a:t>
            </a:r>
            <a:r>
              <a:rPr b="0" lang="fa-IR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just" rtl="1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366"/>
                </a:solidFill>
                <a:latin typeface="Times New Roman"/>
                <a:cs typeface="B Zar"/>
              </a:rPr>
              <a:t>نامنظم شدن كار قلب و با اختلال در جريان خون موجب مرگ نيز خواهد شد.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3789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عناصر ضد ويتامي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1371600"/>
            <a:ext cx="1447920" cy="30492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A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0720" y="2116080"/>
            <a:ext cx="1447920" cy="30492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D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2781360"/>
            <a:ext cx="1447920" cy="30492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E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3629160"/>
            <a:ext cx="1447920" cy="30456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K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4437000"/>
            <a:ext cx="1530360" cy="30492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B1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ام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5157720"/>
            <a:ext cx="1584360" cy="30492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B2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27640" y="5877000"/>
            <a:ext cx="1635120" cy="304560"/>
          </a:xfrm>
          <a:prstGeom prst="rect">
            <a:avLst/>
          </a:prstGeom>
          <a:solidFill>
            <a:srgbClr val="a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B6</a:t>
            </a:r>
            <a:r>
              <a:rPr b="1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ضد ويتامي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1341360"/>
            <a:ext cx="570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سويا خام حاوي آنزيم ليپوكسيداز است كه موجب اكسيداسيون و از بين رفتن كاروتن مي‌گردد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08000" y="2060640"/>
            <a:ext cx="61977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ر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سويا خام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نرمي استخوان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Rickets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و يا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شديد آن در مبتلايان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2708280"/>
            <a:ext cx="570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صرف لوبيا ي خام موجب افزايش نكروز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Necrosis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كبدي در موش‌ها و ديستروفي (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Dystrophy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ماهيچه در طيور گرديده است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425160" y="3638520"/>
            <a:ext cx="76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صرف شبدر شيرين </a:t>
            </a:r>
            <a:r>
              <a:rPr b="0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ز 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لخته شدن خون در مواقع خونريزي جلوگيري مي‌كند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.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5840" y="4486320"/>
            <a:ext cx="703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ياميناز عنصر ضد ويتامين تيامين است كه در منابع گياهي چون سرخس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2880" y="5084640"/>
            <a:ext cx="70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buClr>
                <a:srgbClr val="003366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وه درخت آک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حاو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زدارنده متابول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سم 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بوفلاو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 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شد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528840" y="5877000"/>
            <a:ext cx="7512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در کتان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ك عامل ضد پيريدوكسين بنام 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1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ea typeface="B Zar"/>
              </a:rPr>
              <a:t>-آمينو-دي-پرولين وجود دارد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‌ها</a:t>
            </a:r>
            <a:r>
              <a:rPr b="0" lang="fa-IR" sz="3200" spc="-1" strike="noStrike">
                <a:solidFill>
                  <a:srgbClr val="003366"/>
                </a:solidFill>
                <a:latin typeface="Times New Roman"/>
                <a:ea typeface="Homa"/>
              </a:rPr>
              <a:t>  در کربوهيدرات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ل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ساکار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غ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نشاسته ا</a:t>
            </a:r>
            <a:r>
              <a:rPr b="1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ea typeface="Lotus"/>
              </a:rPr>
              <a:t>  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تر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ات مانن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پوششي مواد مغذي را احاطه كرده و از دسترسي آنزيمهاي هضمي به نشاسته، پروتئينها و چربيها جلوگيري مي‌كنند و باعث كاهش هضم اين مواد مغذي (بخصوص چربيها) مي‌شو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نتوزان ها سبب تغ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 در 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کو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ه مواد هض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ند و در نت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جه موجبات کاهش ک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هضم خوراک و 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 از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د رطوبت بستر را فراهم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نم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آرا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وز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لان ها اص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تر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ات پنتو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هستند که به مواد 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گر 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اره سلو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تصل بوده و قادرند تا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10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رابر وزن خود آب جذب کن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تاگلوکان ها 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ز توسط پرندگان هضم نشده و در نت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جه 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کو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ه مواد هض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را افز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ش داده و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امر موجب کاهش سرعت مخلوط شدن آن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 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هض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ده و ن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ا جذب کاهش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ب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عناصر ضد مغذي - </a:t>
            </a:r>
            <a:r>
              <a:rPr b="1" lang="ar-SA" sz="28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تشکر و قدر دان</a:t>
            </a: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و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Times New Roman"/>
                <a:cs typeface="B Zar"/>
              </a:rPr>
              <a:t>پاسخ به سوالا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مقدمه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اهم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ت بررس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عناصر ضد مغذ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B Zar"/>
              </a:rPr>
              <a:t> و بازدارنده ها درخوراک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70%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ه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 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پرورش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ربوط به غذاست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ز غذا ها بطور ط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ع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حا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تر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ات هست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ثرات 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ن آور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تر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بات بر رشد و کارکرد بدن ح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ا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نتخاب مواد خورا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و تع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حد مجاز آنها جهت ج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ه ن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تفاده از مواد ضد مغذ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ر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نظور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فرآو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واد غذ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و راه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فز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ش 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 خوراک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عناصر ضد مغذي - </a:t>
            </a:r>
            <a:r>
              <a:rPr b="1" lang="ar-SA" sz="28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روش ها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800" spc="-1" strike="noStrike">
                <a:solidFill>
                  <a:srgbClr val="003366"/>
                </a:solidFill>
                <a:latin typeface="Times New Roman"/>
                <a:ea typeface="Homa"/>
              </a:rPr>
              <a:t> </a:t>
            </a:r>
            <a:r>
              <a:rPr b="0" lang="ar-SA" sz="2800" spc="-1" strike="noStrike">
                <a:solidFill>
                  <a:srgbClr val="003366"/>
                </a:solidFill>
                <a:latin typeface="Times New Roman"/>
                <a:cs typeface="Homa"/>
              </a:rPr>
              <a:t>خنثي سازي اثر بازدارنده‌هاي ضد آنزيمي پروتئا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080" y="42224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ست كردن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پختن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جوشاندن در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آ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ب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شعشع با گاما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ادون قرمز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يكروويو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ست كردن خشك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قابليت اثر گذاري اين روشها به مقدار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رطوبت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  <a:ea typeface="B Zar"/>
              </a:rPr>
              <a:t>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،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اندازه اجسا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شدت دما</a:t>
            </a:r>
            <a:r>
              <a:rPr b="0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و </a:t>
            </a:r>
            <a:r>
              <a:rPr b="0" lang="ar-SA" sz="1600" spc="-1" strike="noStrike" u="sng">
                <a:solidFill>
                  <a:srgbClr val="003366"/>
                </a:solidFill>
                <a:uFillTx/>
                <a:latin typeface="Times New Roman"/>
                <a:cs typeface="B Zar"/>
              </a:rPr>
              <a:t>مدت زمان حرارت دهي</a:t>
            </a:r>
            <a:r>
              <a:rPr b="0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بستگي دارد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964080"/>
            <a:ext cx="761976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صلاح نژاد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کانولا که واریته اصلاح شده منداب است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ي شيميايي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فزودن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آنزيم, خيساندن در محلولهاي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نمکی ,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سيدي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ي فيزيكي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–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مكانيكي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جدا کردن بوسته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تغذیه ای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ضافه کردن ید به منابع حاوی گلوکوزینولاتها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انبارداری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ar-SA" sz="16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نگهداری سورگوم در .....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3366"/>
                </a:solidFill>
                <a:latin typeface="Times New Roman"/>
                <a:cs typeface="B Zar"/>
              </a:rPr>
              <a:t>روشهای حرارتی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69360"/>
            <a:ext cx="73152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اثر حرارت بر فعال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ت محدود کننده 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ن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و م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زان بهره و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پروتئ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ن موجود در کنجاله سو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ا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ea typeface="Homa"/>
              </a:rPr>
              <a:t> مصرف شده در مو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2280" y="1898640"/>
            <a:ext cx="8686440" cy="4959000"/>
            <a:chOff x="152280" y="1898640"/>
            <a:chExt cx="8686440" cy="4959000"/>
          </a:xfrm>
        </p:grpSpPr>
        <p:grpSp>
          <p:nvGrpSpPr>
            <p:cNvPr id="337" name=""/>
            <p:cNvGrpSpPr/>
            <p:nvPr/>
          </p:nvGrpSpPr>
          <p:grpSpPr>
            <a:xfrm>
              <a:off x="1166760" y="2411280"/>
              <a:ext cx="4435920" cy="3078000"/>
              <a:chOff x="1166760" y="2411280"/>
              <a:chExt cx="4435920" cy="30780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166760" y="2446560"/>
                <a:ext cx="215640" cy="171000"/>
                <a:chOff x="1166760" y="2446560"/>
                <a:chExt cx="215640" cy="171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47400" y="251064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166760" y="244656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1495080" y="422064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1279080" y="2411280"/>
                <a:ext cx="4323600" cy="3078000"/>
                <a:chOff x="1279080" y="2411280"/>
                <a:chExt cx="4323600" cy="3078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283400" y="2411280"/>
                  <a:ext cx="4319280" cy="30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83400" y="4630680"/>
                  <a:ext cx="261000" cy="3240"/>
                </a:xfrm>
                <a:custGeom>
                  <a:avLst/>
                  <a:gdLst/>
                  <a:ahLst/>
                  <a:rect l="l" t="t" r="r" b="b"/>
                  <a:pathLst>
                    <a:path w="174" h="3">
                      <a:moveTo>
                        <a:pt x="0" y="3"/>
                      </a:moveTo>
                      <a:lnTo>
                        <a:pt x="17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83400" y="4114080"/>
                  <a:ext cx="265320" cy="720"/>
                </a:xfrm>
                <a:custGeom>
                  <a:avLst/>
                  <a:gdLst/>
                  <a:ahLst/>
                  <a:rect l="l" t="t" r="r" b="b"/>
                  <a:pathLst>
                    <a:path w="177" h="1">
                      <a:moveTo>
                        <a:pt x="0" y="0"/>
                      </a:moveTo>
                      <a:lnTo>
                        <a:pt x="17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83400" y="3526200"/>
                  <a:ext cx="261000" cy="3240"/>
                </a:xfrm>
                <a:custGeom>
                  <a:avLst/>
                  <a:gdLst/>
                  <a:ahLst/>
                  <a:rect l="l" t="t" r="r" b="b"/>
                  <a:pathLst>
                    <a:path w="174" h="3">
                      <a:moveTo>
                        <a:pt x="0" y="3"/>
                      </a:moveTo>
                      <a:lnTo>
                        <a:pt x="17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283400" y="2895480"/>
                  <a:ext cx="130320" cy="3240"/>
                </a:xfrm>
                <a:custGeom>
                  <a:avLst/>
                  <a:gdLst/>
                  <a:ahLst/>
                  <a:rect l="l" t="t" r="r" b="b"/>
                  <a:pathLst>
                    <a:path w="87" h="3">
                      <a:moveTo>
                        <a:pt x="0" y="3"/>
                      </a:moveTo>
                      <a:lnTo>
                        <a:pt x="8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283360" y="5118480"/>
                  <a:ext cx="319320" cy="1080"/>
                </a:xfrm>
                <a:custGeom>
                  <a:avLst/>
                  <a:gdLst/>
                  <a:ahLst/>
                  <a:rect l="l" t="t" r="r" b="b"/>
                  <a:pathLst>
                    <a:path w="213" h="1">
                      <a:moveTo>
                        <a:pt x="0" y="0"/>
                      </a:moveTo>
                      <a:lnTo>
                        <a:pt x="213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238720" y="4495320"/>
                  <a:ext cx="363960" cy="4680"/>
                </a:xfrm>
                <a:custGeom>
                  <a:avLst/>
                  <a:gdLst/>
                  <a:ahLst/>
                  <a:rect l="l" t="t" r="r" b="b"/>
                  <a:pathLst>
                    <a:path w="243" h="4">
                      <a:moveTo>
                        <a:pt x="0" y="0"/>
                      </a:moveTo>
                      <a:lnTo>
                        <a:pt x="243" y="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229360" y="2582280"/>
                  <a:ext cx="373320" cy="720"/>
                </a:xfrm>
                <a:custGeom>
                  <a:avLst/>
                  <a:gdLst/>
                  <a:ahLst/>
                  <a:rect l="l" t="t" r="r" b="b"/>
                  <a:pathLst>
                    <a:path w="249" h="1">
                      <a:moveTo>
                        <a:pt x="0" y="0"/>
                      </a:moveTo>
                      <a:lnTo>
                        <a:pt x="249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243040" y="3184200"/>
                  <a:ext cx="359640" cy="720"/>
                </a:xfrm>
                <a:custGeom>
                  <a:avLst/>
                  <a:gdLst/>
                  <a:ahLst/>
                  <a:rect l="l" t="t" r="r" b="b"/>
                  <a:pathLst>
                    <a:path w="240" h="1">
                      <a:moveTo>
                        <a:pt x="0" y="0"/>
                      </a:moveTo>
                      <a:lnTo>
                        <a:pt x="24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270040" y="3811320"/>
                  <a:ext cx="332640" cy="4680"/>
                </a:xfrm>
                <a:custGeom>
                  <a:avLst/>
                  <a:gdLst/>
                  <a:ahLst/>
                  <a:rect l="l" t="t" r="r" b="b"/>
                  <a:pathLst>
                    <a:path w="222" h="4">
                      <a:moveTo>
                        <a:pt x="0" y="0"/>
                      </a:moveTo>
                      <a:lnTo>
                        <a:pt x="222" y="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49680" y="4805280"/>
                  <a:ext cx="153000" cy="3240"/>
                </a:xfrm>
                <a:custGeom>
                  <a:avLst/>
                  <a:gdLst/>
                  <a:ahLst/>
                  <a:rect l="l" t="t" r="r" b="b"/>
                  <a:pathLst>
                    <a:path w="102" h="3">
                      <a:moveTo>
                        <a:pt x="102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441040" y="4121280"/>
                  <a:ext cx="161640" cy="3240"/>
                </a:xfrm>
                <a:custGeom>
                  <a:avLst/>
                  <a:gdLst/>
                  <a:ahLst/>
                  <a:rect l="l" t="t" r="r" b="b"/>
                  <a:pathLst>
                    <a:path w="108" h="3">
                      <a:moveTo>
                        <a:pt x="108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423040" y="3490560"/>
                  <a:ext cx="157320" cy="1080"/>
                </a:xfrm>
                <a:custGeom>
                  <a:avLst/>
                  <a:gdLst/>
                  <a:ahLst/>
                  <a:rect l="l" t="t" r="r" b="b"/>
                  <a:pathLst>
                    <a:path w="105" h="1">
                      <a:moveTo>
                        <a:pt x="105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23040" y="2852640"/>
                  <a:ext cx="179640" cy="3600"/>
                </a:xfrm>
                <a:custGeom>
                  <a:avLst/>
                  <a:gdLst/>
                  <a:ahLst/>
                  <a:rect l="l" t="t" r="r" b="b"/>
                  <a:pathLst>
                    <a:path w="120" h="3">
                      <a:moveTo>
                        <a:pt x="120" y="0"/>
                      </a:moveTo>
                      <a:lnTo>
                        <a:pt x="0" y="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737720" y="5361120"/>
                  <a:ext cx="1440" cy="110160"/>
                </a:xfrm>
                <a:custGeom>
                  <a:avLst/>
                  <a:gdLst/>
                  <a:ahLst/>
                  <a:rect l="l" t="t" r="r" b="b"/>
                  <a:pathLst>
                    <a:path w="1" h="93">
                      <a:moveTo>
                        <a:pt x="0" y="0"/>
                      </a:moveTo>
                      <a:lnTo>
                        <a:pt x="1" y="9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14740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79040" y="5350320"/>
                  <a:ext cx="1440" cy="138600"/>
                </a:xfrm>
                <a:custGeom>
                  <a:avLst/>
                  <a:gdLst/>
                  <a:ahLst/>
                  <a:rect l="l" t="t" r="r" b="b"/>
                  <a:pathLst>
                    <a:path w="1" h="117">
                      <a:moveTo>
                        <a:pt x="0" y="0"/>
                      </a:moveTo>
                      <a:lnTo>
                        <a:pt x="1" y="11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65904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135040" y="5353560"/>
                  <a:ext cx="1440" cy="135360"/>
                </a:xfrm>
                <a:custGeom>
                  <a:avLst/>
                  <a:gdLst/>
                  <a:ahLst/>
                  <a:rect l="l" t="t" r="r" b="b"/>
                  <a:pathLst>
                    <a:path w="1" h="114">
                      <a:moveTo>
                        <a:pt x="0" y="0"/>
                      </a:moveTo>
                      <a:lnTo>
                        <a:pt x="1" y="1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279080" y="2500200"/>
                  <a:ext cx="3797280" cy="2774880"/>
                </a:xfrm>
                <a:custGeom>
                  <a:avLst/>
                  <a:gdLst/>
                  <a:ahLst/>
                  <a:rect l="l" t="t" r="r" b="b"/>
                  <a:pathLst>
                    <a:path w="2532" h="2337">
                      <a:moveTo>
                        <a:pt x="0" y="0"/>
                      </a:moveTo>
                      <a:cubicBezTo>
                        <a:pt x="48" y="131"/>
                        <a:pt x="219" y="609"/>
                        <a:pt x="291" y="789"/>
                      </a:cubicBezTo>
                      <a:cubicBezTo>
                        <a:pt x="363" y="969"/>
                        <a:pt x="339" y="957"/>
                        <a:pt x="435" y="1077"/>
                      </a:cubicBezTo>
                      <a:cubicBezTo>
                        <a:pt x="531" y="1197"/>
                        <a:pt x="675" y="1365"/>
                        <a:pt x="867" y="1509"/>
                      </a:cubicBezTo>
                      <a:cubicBezTo>
                        <a:pt x="1059" y="1653"/>
                        <a:pt x="1347" y="1821"/>
                        <a:pt x="1587" y="1941"/>
                      </a:cubicBezTo>
                      <a:cubicBezTo>
                        <a:pt x="1827" y="2061"/>
                        <a:pt x="2149" y="2163"/>
                        <a:pt x="2307" y="2229"/>
                      </a:cubicBezTo>
                      <a:cubicBezTo>
                        <a:pt x="2465" y="2295"/>
                        <a:pt x="2485" y="2315"/>
                        <a:pt x="2532" y="233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211760" y="4581000"/>
                <a:ext cx="127080" cy="10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79080" y="2667600"/>
                <a:ext cx="3882960" cy="1966320"/>
              </a:xfrm>
              <a:custGeom>
                <a:avLst/>
                <a:gdLst/>
                <a:ahLst/>
                <a:rect l="l" t="t" r="r" b="b"/>
                <a:pathLst>
                  <a:path w="2589" h="1656">
                    <a:moveTo>
                      <a:pt x="0" y="1656"/>
                    </a:moveTo>
                    <a:cubicBezTo>
                      <a:pt x="276" y="1212"/>
                      <a:pt x="552" y="768"/>
                      <a:pt x="720" y="504"/>
                    </a:cubicBezTo>
                    <a:cubicBezTo>
                      <a:pt x="888" y="240"/>
                      <a:pt x="888" y="144"/>
                      <a:pt x="1008" y="72"/>
                    </a:cubicBezTo>
                    <a:cubicBezTo>
                      <a:pt x="1128" y="0"/>
                      <a:pt x="1177" y="61"/>
                      <a:pt x="1440" y="72"/>
                    </a:cubicBezTo>
                    <a:cubicBezTo>
                      <a:pt x="1703" y="83"/>
                      <a:pt x="2350" y="127"/>
                      <a:pt x="2589" y="14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96640" y="346068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73640" y="2823120"/>
                <a:ext cx="12708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5280" y="268164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16960" y="2788560"/>
                <a:ext cx="127440" cy="10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405080" y="2924280"/>
                <a:ext cx="215640" cy="171000"/>
                <a:chOff x="1405080" y="2924280"/>
                <a:chExt cx="215640" cy="171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485720" y="29883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405080" y="29242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985760" y="3843360"/>
                <a:ext cx="215640" cy="171000"/>
                <a:chOff x="1985760" y="3843360"/>
                <a:chExt cx="215640" cy="1710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066400" y="390744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985760" y="384336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4838400" y="5136480"/>
                <a:ext cx="215640" cy="171000"/>
                <a:chOff x="4838400" y="5136480"/>
                <a:chExt cx="215640" cy="171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919040" y="52005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838400" y="51364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35760" y="4634280"/>
                <a:ext cx="215640" cy="171000"/>
                <a:chOff x="3335760" y="4634280"/>
                <a:chExt cx="215640" cy="171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16400" y="469836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35760" y="463428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597400" y="4256640"/>
                <a:ext cx="215640" cy="171000"/>
                <a:chOff x="2597400" y="4256640"/>
                <a:chExt cx="215640" cy="1710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678040" y="4320720"/>
                  <a:ext cx="4176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97400" y="4256640"/>
                  <a:ext cx="215640" cy="17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>
              <a:off x="152280" y="2068920"/>
              <a:ext cx="2376000" cy="47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فعاليت بازدارندگي تريپسين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 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(TIU/mg)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	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63080" y="1898640"/>
              <a:ext cx="2375640" cy="47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ميزان بهره‌وري پروتئين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(PER)</a:t>
              </a:r>
              <a:r>
                <a:rPr b="0" lang="fa-IR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	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78360" y="5916960"/>
              <a:ext cx="42674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</a:rPr>
                <a:t>100°C 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ea typeface="B Zar"/>
                </a:rPr>
                <a:t> </a:t>
              </a:r>
              <a:r>
                <a:rPr b="0" lang="ar-SA" sz="1400" spc="-1" strike="noStrike">
                  <a:solidFill>
                    <a:srgbClr val="003366"/>
                  </a:solidFill>
                  <a:latin typeface="Times New Roman"/>
                  <a:cs typeface="B Zar"/>
                </a:rPr>
                <a:t>مدت زمان نگهداري به دقيقه در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3040" y="277848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8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440" y="227556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3040" y="340128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3040" y="3986640"/>
              <a:ext cx="6487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9360" y="4516920"/>
              <a:ext cx="648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82440" y="5535720"/>
              <a:ext cx="648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36760" y="554292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67680" y="5542920"/>
              <a:ext cx="648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91040" y="554292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12720" y="5561640"/>
              <a:ext cx="648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5561640"/>
              <a:ext cx="648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54440" y="497664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.5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2120" y="436356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1.9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54440" y="367308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.3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32120" y="3024000"/>
              <a:ext cx="64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2.7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23480" y="2447640"/>
              <a:ext cx="646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34040" y="4759560"/>
              <a:ext cx="648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imes New Roman"/>
                </a:rPr>
                <a:t>(TIU)</a:t>
              </a:r>
              <a:endParaRPr b="0" lang="en-US" sz="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6720" y="2868120"/>
              <a:ext cx="98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(PER)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990720" y="2057400"/>
            <a:ext cx="7083360" cy="405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29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به نام آنکه هستی از اوست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094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  <a:cs typeface="Homa"/>
              </a:rPr>
              <a:t>عناصر ضد مغذي - </a:t>
            </a:r>
            <a:r>
              <a:rPr b="0" lang="ar-SA" sz="3200" spc="-1" strike="noStrike">
                <a:solidFill>
                  <a:srgbClr val="003366"/>
                </a:solidFill>
                <a:latin typeface="B Zar"/>
                <a:cs typeface="Homa"/>
              </a:rPr>
              <a:t>بازدارنده‌ه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80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بازدارنده‌هاي پروتئ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‌هاي پروتئاز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لكتين‌ها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نن‌ها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ساپونين‌‌ها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    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آم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ه غ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ر پروتئ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واد ضد مغذي در منابع پروتئين حيواني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‌هاي 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معدن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ک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لاتها (ا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 فا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ک , ا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 اکسال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ک)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گو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پول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گلوکوز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ولات ها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‌ها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و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تام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نه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‌ها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چرب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 ارو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ک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             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اس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چرب حلقو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          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‌ها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در کربوه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راتها  :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پل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ساکار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غ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رنشاسته ا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7315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بازدارنده‌هاي پروتئاز</a:t>
            </a:r>
            <a:r>
              <a:rPr b="0" lang="fa-IR" sz="3600" spc="-1" strike="noStrike">
                <a:solidFill>
                  <a:srgbClr val="003366"/>
                </a:solidFill>
                <a:latin typeface="Times New Roman"/>
                <a:cs typeface="Homa"/>
              </a:rPr>
              <a:t>ها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حدودكننده تريپسين و كيموتريپسين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حدود کنند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به نام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حدود کننده س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(او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بار در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منبع غذ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کشف گرد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) و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 محدود کننده ک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تز (او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ک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ماده ضد مغذ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را کشف کرد) خوانده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ند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ر لگوم ها خصوصا س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</a:rPr>
              <a:t>،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باقلا و لو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خام وجود دارن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صرف س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خام باعث کاهش رشد در ح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ان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 که علت آن وجود عناصر ضد مغذ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ت که موجب اختلالات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در هضم و جذب منابع پروتئ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د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3366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عدم تعادل در الگ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 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 که جذب 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شوند بعلت کند شدن روند آزاد سا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 ضرو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نظ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ر مت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و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 و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ا دفع ا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د آم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ه گوگرد دار 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ستئن به موجب دفع آنز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 ها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B Zar"/>
              </a:rPr>
              <a:t> 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وژن وک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مو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B Zar"/>
              </a:rPr>
              <a:t>نوژن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مکان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سم اثر منف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Homa"/>
              </a:rPr>
              <a:t> محصول جنب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ea typeface="Homa"/>
              </a:rPr>
              <a:t> ت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پس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ن در تحر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ک فعال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ي</a:t>
            </a:r>
            <a:r>
              <a:rPr b="0" lang="fa-IR" sz="2400" spc="-1" strike="noStrike">
                <a:solidFill>
                  <a:srgbClr val="003366"/>
                </a:solidFill>
                <a:latin typeface="Times New Roman"/>
                <a:cs typeface="Homa"/>
              </a:rPr>
              <a:t>ت پانکرا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424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66"/>
                </a:solidFill>
                <a:latin typeface="Times New Roman"/>
                <a:cs typeface="B Zar"/>
              </a:rPr>
              <a:t>بطور كلي چگونگي ترشحات پانكراس توسط يك مكانيزم اثر منفي محصول جنبي منفي (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Negative feedback mechanism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كنترل مي شود كه در آن ترشحات حاصله از پانكراس توسط سطح تريپسين در روده مشخص مي گردد. با كاهش سطح تريپسين در دئودنيوم (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Dudenum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 به علت تشكيل تركيبات پيچيده حاصله از تركيب تريپسين با بازدارنده ها، پانكراس مجبور به ترشح بيشتر آنزيم مي گردد. هورمون كوله سيستوكينين (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Cholcystokinin</a:t>
            </a:r>
            <a:r>
              <a:rPr b="1" lang="ar-SA" sz="1800" spc="-1" strike="noStrike">
                <a:solidFill>
                  <a:srgbClr val="003366"/>
                </a:solidFill>
                <a:latin typeface="Times New Roman"/>
                <a:ea typeface="B Zar"/>
              </a:rPr>
              <a:t>)كه از موكوس روده ترشح مي شود به عنوان يك واسطه عمل مي نمايد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429000"/>
            <a:ext cx="2362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کوله 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ستوک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 (موکوس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2362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 (پانکراس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419720"/>
            <a:ext cx="2362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 (روده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486400"/>
            <a:ext cx="1981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بازدارنده پروتئ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486400"/>
            <a:ext cx="17524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منبع پروتئ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590560" y="3962520"/>
            <a:ext cx="5331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2880" y="3962520"/>
            <a:ext cx="60984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85640" y="4876920"/>
            <a:ext cx="76212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4876920"/>
            <a:ext cx="68580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71800" y="3657600"/>
            <a:ext cx="23623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6172200"/>
            <a:ext cx="17524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روتئولا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ز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6248520"/>
            <a:ext cx="29718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- بازدارنده تر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پس</a:t>
            </a:r>
            <a:r>
              <a:rPr b="0" lang="ar-SA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ي</a:t>
            </a:r>
            <a:r>
              <a:rPr b="0" lang="fa-IR" sz="2000" spc="-1" strike="noStrike">
                <a:solidFill>
                  <a:srgbClr val="003366"/>
                </a:solidFill>
                <a:latin typeface="Times New Roman"/>
                <a:cs typeface="B Zar"/>
              </a:rPr>
              <a:t>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7" idx="3"/>
            <a:endCxn id="113" idx="3"/>
          </p:cNvCxnSpPr>
          <p:nvPr/>
        </p:nvCxnSpPr>
        <p:spPr>
          <a:xfrm>
            <a:off x="2895120" y="5714640"/>
            <a:ext cx="2520" cy="686520"/>
          </a:xfrm>
          <a:prstGeom prst="curvedConnector5">
            <a:avLst>
              <a:gd name="adj1" fmla="val 17800000"/>
              <a:gd name="adj2" fmla="val 50000"/>
              <a:gd name="adj3" fmla="val 1780000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V="1">
            <a:off x="3200400" y="4952880"/>
            <a:ext cx="533520" cy="1067040"/>
          </a:xfrm>
          <a:prstGeom prst="line">
            <a:avLst/>
          </a:prstGeom>
          <a:ln w="31680">
            <a:solidFill>
              <a:srgbClr val="0033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594360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04920"/>
            <a:ext cx="556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ا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جاد ترک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بات پ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چ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ده با تر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پس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ن و بازدارندگ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ea typeface="B Zar"/>
              </a:rPr>
              <a:t> از فعال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2000" spc="-1" strike="noStrike">
                <a:solidFill>
                  <a:srgbClr val="ffffff"/>
                </a:solidFill>
                <a:latin typeface="Times New Roman"/>
                <a:cs typeface="B Zar"/>
              </a:rPr>
              <a:t>ت آن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3733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آهسته کردن روند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رها سازي اسيد‌هاي آمينه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143000"/>
            <a:ext cx="3048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جلوگ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ر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 از هضم منابع پروتئ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ن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38098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دفع مواد مغذ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 پروتئ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ن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971800"/>
            <a:ext cx="30477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عدم تعادل در الگوي اسيد‌هاي آمينه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057400"/>
            <a:ext cx="2286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تجزيه ناقص پروتئين ها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648320"/>
            <a:ext cx="2286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كاهش جذب نيتروژن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5410080"/>
            <a:ext cx="21333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کاهش وزن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5334120"/>
            <a:ext cx="25909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بزرگ شدن لوزالمعده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6248520"/>
            <a:ext cx="4267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افزا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ش ب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 رو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ي</a:t>
            </a:r>
            <a:r>
              <a:rPr b="1" lang="fa-IR" sz="1800" spc="-1" strike="noStrike">
                <a:solidFill>
                  <a:srgbClr val="ffffff"/>
                </a:solidFill>
                <a:latin typeface="Times New Roman"/>
                <a:cs typeface="B Zar"/>
              </a:rPr>
              <a:t>ه نسبت وزن لوزالمعده به وزن بدن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838080"/>
            <a:ext cx="45720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276720" y="838080"/>
            <a:ext cx="45720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838080" cy="15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9000" y="1447920"/>
            <a:ext cx="8380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44792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3429000"/>
            <a:ext cx="0" cy="3808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76720" y="5105520"/>
            <a:ext cx="45720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105520"/>
            <a:ext cx="38088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720" y="5715000"/>
            <a:ext cx="45720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791320"/>
            <a:ext cx="45720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276720"/>
          <a:ext cx="83818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76720"/>
                    <a:ext cx="8381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57200" y="1752480"/>
            <a:ext cx="74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80"/>
              </a:buClr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Times New Roman"/>
                <a:ea typeface="B Zar"/>
              </a:rPr>
              <a:t> تاثير مصرف سوياي خام در مقايسه با سوياي حرارت داده شده و كازئين بر وزن    نهايي بدن، وزن نسبي و وزن حقيقي پانكراس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5:37:02Z</dcterms:created>
  <dc:creator>maziar</dc:creator>
  <dc:description/>
  <dc:language>en-US</dc:language>
  <cp:lastModifiedBy>MRT</cp:lastModifiedBy>
  <dcterms:modified xsi:type="dcterms:W3CDTF">2012-10-27T04:52:16Z</dcterms:modified>
  <cp:revision>175</cp:revision>
  <dc:subject/>
  <dc:title>PowerPoint Presentation</dc:title>
</cp:coreProperties>
</file>