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C8A6-AFBE-49E1-AB0B-95E77C1BDF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3A8D-7CA3-431E-B045-5844CBA191E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637-41F4-49B9-B414-0F61ED69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238-8EE2-495B-AF98-5D107BD2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D3B-B80C-412F-AE50-63F98CBA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18C-58E8-4F65-BFA1-EDF6E283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41DFB-ABEE-402F-A2B7-A4500DF6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E63B7-98D2-461E-8461-1B52BE65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E9DBE-56A1-45AF-A664-ADFE166F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EACC1-5324-4ACE-8305-514E62B9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66BAF-1191-448C-8DF0-EBA754C8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6A056-2221-4E05-9FD7-EFB6D108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22E29-ECA5-4A2C-9984-1615E9FD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51BF-7FD5-497F-911A-B7E85A5B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F956F-2FD1-408D-A704-8496EFC1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DFF2D-0964-4A4E-A81E-AFB04462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30B6D-9820-4F3E-922E-50FCF0F2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6F3A0-CEAF-4069-ACEC-152308C5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FB3CF-7598-4388-90AC-6877E1B6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31B-A439-4AC2-9A31-1D0F491C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3D5-5005-4460-B122-76EEA643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9C0-A727-4DCC-A597-558115B5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AB3C-D944-46F7-944E-260C3A0F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A65-4893-488F-A5A7-BDCB7F73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073D-559E-47EE-BACC-CD40486A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884-D28B-43D0-BD84-401F9F37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FE42-C7AD-4420-8EEF-58CD86BFBBD2}" type="datetime">
              <a:rPr b="0" lang="ar-SA" sz="1200" spc="-1" strike="noStrike">
                <a:solidFill>
                  <a:srgbClr val="000000"/>
                </a:solidFill>
                <a:latin typeface="Arial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7C33-BD6C-422E-9217-06CC3AAC704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2CE0-E87E-4D64-91D9-E60364228074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19E0-A540-4ACC-9012-A8A0A8CB1AB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6400" spc="-1" strike="noStrike">
              <a:solidFill>
                <a:srgbClr val="e3e3ff"/>
              </a:solidFill>
              <a:latin typeface="Arial"/>
              <a:ea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254400"/>
            <a:ext cx="64008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  <a:ea typeface="Times New Roman"/>
            </a:endParaRPr>
          </a:p>
        </p:txBody>
      </p:sp>
      <p:pic>
        <p:nvPicPr>
          <p:cNvPr id="131" name="Picture 6" descr="bismillah2_jpg_jp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41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3E6-5D23-4071-B64F-D2D7C0887E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  <a:ea typeface="Mit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با توجه به  پايين بودن ميزان مصرف  شير و لبنيات در جامعه،  بايد در جهت بهبود عرضه سرانه لبنيات در كشور، تخصيص يارانه مناسب، آموزش و ايجاد فرهنگ صحيح مصرف شير و لبنيات اقدامات لازم بعمل آي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علاوه با اهميت تغذيه اي شير لزوم پايش و کنترل کيفيت شير از اهميت ويژه اي برخوردار اس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2880-81B0-4F9F-AF64-C2DB14DB47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3e3ff"/>
                </a:solidFill>
                <a:latin typeface="Arial"/>
              </a:rPr>
              <a:t>ایمنی شیر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 rtl="1">
              <a:lnSpc>
                <a:spcPct val="11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ffffff"/>
                </a:solidFill>
                <a:latin typeface="Arial"/>
                <a:cs typeface="B Mitra"/>
              </a:rPr>
              <a:t>شیر به علت ویژگیها و صفات ممتازی که دارد به سرعت در معرض آلودگیهای گوناگون قرار میگیرد و بسادگی باعث انتشار تعداد زیادی از عوامل بیماریزا میگردد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lnSpc>
                <a:spcPct val="11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ffffff"/>
                </a:solidFill>
                <a:latin typeface="Arial"/>
                <a:ea typeface="B Mitra"/>
              </a:rPr>
              <a:t> به بهداشت شیر در مراحل </a:t>
            </a:r>
            <a:r>
              <a:rPr b="1" lang="fa-IR" sz="3000" spc="-1" strike="noStrike" u="sng">
                <a:solidFill>
                  <a:srgbClr val="ffffff"/>
                </a:solidFill>
                <a:uFillTx/>
                <a:latin typeface="Arial"/>
                <a:cs typeface="B Mitra"/>
              </a:rPr>
              <a:t>مختلف تولید</a:t>
            </a:r>
            <a:r>
              <a:rPr b="0" lang="fa-IR" sz="3000" spc="-1" strike="noStrike">
                <a:solidFill>
                  <a:srgbClr val="ffffff"/>
                </a:solidFill>
                <a:latin typeface="Arial"/>
                <a:ea typeface="B Mitra"/>
              </a:rPr>
              <a:t> ، </a:t>
            </a:r>
            <a:r>
              <a:rPr b="1" lang="fa-IR" sz="3000" spc="-1" strike="noStrike" u="sng">
                <a:solidFill>
                  <a:srgbClr val="ffffff"/>
                </a:solidFill>
                <a:uFillTx/>
                <a:latin typeface="Arial"/>
                <a:cs typeface="B Mitra"/>
              </a:rPr>
              <a:t>جمع آوری</a:t>
            </a:r>
            <a:r>
              <a:rPr b="0" lang="fa-IR" sz="3000" spc="-1" strike="noStrike">
                <a:solidFill>
                  <a:srgbClr val="ffffff"/>
                </a:solidFill>
                <a:latin typeface="Arial"/>
                <a:ea typeface="B Mitra"/>
              </a:rPr>
              <a:t> ،</a:t>
            </a:r>
            <a:r>
              <a:rPr b="1" lang="fa-IR" sz="3000" spc="-1" strike="noStrike" u="sng">
                <a:solidFill>
                  <a:srgbClr val="ffffff"/>
                </a:solidFill>
                <a:uFillTx/>
                <a:latin typeface="Arial"/>
                <a:cs typeface="B Mitra"/>
              </a:rPr>
              <a:t>حمل ونقل</a:t>
            </a:r>
            <a:r>
              <a:rPr b="0" lang="fa-IR" sz="3000" spc="-1" strike="noStrike">
                <a:solidFill>
                  <a:srgbClr val="ffffff"/>
                </a:solidFill>
                <a:latin typeface="Arial"/>
                <a:ea typeface="B Mitra"/>
              </a:rPr>
              <a:t> ، </a:t>
            </a:r>
            <a:r>
              <a:rPr b="1" lang="fa-IR" sz="3000" spc="-1" strike="noStrike" u="sng">
                <a:solidFill>
                  <a:srgbClr val="ffffff"/>
                </a:solidFill>
                <a:uFillTx/>
                <a:latin typeface="Arial"/>
                <a:cs typeface="B Mitra"/>
              </a:rPr>
              <a:t>تغییر و تبدیل در کارخانه</a:t>
            </a:r>
            <a:r>
              <a:rPr b="0" lang="fa-IR" sz="3000" spc="-1" strike="noStrike">
                <a:solidFill>
                  <a:srgbClr val="ffffff"/>
                </a:solidFill>
                <a:latin typeface="Arial"/>
                <a:ea typeface="B Mitra"/>
              </a:rPr>
              <a:t> ،</a:t>
            </a:r>
            <a:r>
              <a:rPr b="1" lang="fa-IR" sz="30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1" lang="fa-IR" sz="3000" spc="-1" strike="noStrike" u="sng">
                <a:solidFill>
                  <a:srgbClr val="ffffff"/>
                </a:solidFill>
                <a:uFillTx/>
                <a:latin typeface="Arial"/>
                <a:cs typeface="B Mitra"/>
              </a:rPr>
              <a:t>توزیع</a:t>
            </a:r>
            <a:r>
              <a:rPr b="0" lang="fa-IR" sz="3000" spc="-1" strike="noStrike" u="sng">
                <a:solidFill>
                  <a:srgbClr val="ffffff"/>
                </a:solidFill>
                <a:uFillTx/>
                <a:latin typeface="Arial"/>
                <a:ea typeface="B Mitra"/>
              </a:rPr>
              <a:t> و </a:t>
            </a:r>
            <a:r>
              <a:rPr b="1" lang="fa-IR" sz="3000" spc="-1" strike="noStrike" u="sng">
                <a:solidFill>
                  <a:srgbClr val="ffffff"/>
                </a:solidFill>
                <a:uFillTx/>
                <a:latin typeface="Arial"/>
                <a:cs typeface="B Mitra"/>
              </a:rPr>
              <a:t>مصرف</a:t>
            </a:r>
            <a:r>
              <a:rPr b="0" lang="fa-IR" sz="3000" spc="-1" strike="noStrike">
                <a:solidFill>
                  <a:srgbClr val="ffffff"/>
                </a:solidFill>
                <a:latin typeface="Arial"/>
                <a:ea typeface="B Mitra"/>
              </a:rPr>
              <a:t> توجه ویزه مبذول گردد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096C-1F38-4907-BCFF-A355310531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700" spc="-1" strike="noStrike">
                <a:solidFill>
                  <a:srgbClr val="e3e3ff"/>
                </a:solidFill>
                <a:latin typeface="Arial"/>
                <a:ea typeface="B Mitra"/>
              </a:rPr>
              <a:t> رعایت بهداشت شیر از تولید تا عرضه</a:t>
            </a:r>
            <a:endParaRPr b="0" lang="en-US" sz="47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تولید شی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دوشیدن وجمع آوری شیر خا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بهداشت شیر در کارخان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بهداشت شیر در سطح عرضه و مصر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6D10-4E2A-4E31-A5FE-145E703A2D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800" spc="-1" strike="noStrike">
                <a:solidFill>
                  <a:srgbClr val="e3e3ff"/>
                </a:solidFill>
                <a:latin typeface="Arial"/>
                <a:cs typeface="B Mitra"/>
              </a:rPr>
              <a:t>شرایط بهداشتی تولید ، نگهداری  و حمل علوفه</a:t>
            </a:r>
            <a:endParaRPr b="0" lang="en-US" sz="3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925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</a:rPr>
              <a:t>در صورت رعایت نکردن شرایط بهداشتی علوفه در مرحله تولید ،نگهداری و حمل و نقل بر اثر کپک زدگی و رشد قارچها ترکیبات سمی به نام مایکو توکسین تولید میشوند که در بین 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</a:rPr>
              <a:t> نوع سرطانزای آنها ، آفلا توکسین از نظر سرطان زایی قوی تراست که در اثر کپک زدگی خوراک دام و تولید آفلا توکسین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1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</a:rPr>
              <a:t> متابولیت آن یعنی آفلاتوکسین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1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</a:rPr>
              <a:t> در شیر مشاهده می شود که اثر هپاتوکسیستی و سرطان زایی دار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ffffff"/>
                </a:solidFill>
                <a:latin typeface="Arial"/>
              </a:rPr>
              <a:t>بر اساس استاندارد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D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200" spc="-1" strike="noStrike">
                <a:solidFill>
                  <a:srgbClr val="ffffff"/>
                </a:solidFill>
                <a:latin typeface="Arial"/>
              </a:rPr>
              <a:t> میزان آفلاتوکسین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1</a:t>
            </a:r>
            <a:r>
              <a:rPr b="0" lang="fa-IR" sz="2200" spc="-1" strike="noStrike">
                <a:solidFill>
                  <a:srgbClr val="ffffff"/>
                </a:solidFill>
                <a:latin typeface="Arial"/>
              </a:rPr>
              <a:t> در شیر کمتر از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pb</a:t>
            </a:r>
            <a:r>
              <a:rPr b="0" lang="fa-IR" sz="2200" spc="-1" strike="noStrike">
                <a:solidFill>
                  <a:srgbClr val="ffffff"/>
                </a:solidFill>
                <a:latin typeface="Arial"/>
              </a:rPr>
              <a:t>  0.5</a:t>
            </a:r>
            <a:r>
              <a:rPr b="0" lang="fa-IR" sz="2200" spc="-1" strike="noStrike">
                <a:solidFill>
                  <a:srgbClr val="ffffff"/>
                </a:solidFill>
                <a:latin typeface="Arial"/>
              </a:rPr>
              <a:t>و بر اساس استاندارد ایران کمتر از </a:t>
            </a:r>
            <a:r>
              <a:rPr b="0" lang="fa-IR" sz="2200" spc="-1" strike="noStrike">
                <a:solidFill>
                  <a:srgbClr val="ffffff"/>
                </a:solidFill>
                <a:latin typeface="Arial"/>
              </a:rPr>
              <a:t>0.05</a:t>
            </a:r>
            <a:r>
              <a:rPr b="0" lang="fa-IR" sz="2200" spc="-1" strike="noStrike">
                <a:solidFill>
                  <a:srgbClr val="ffffff"/>
                </a:solidFill>
                <a:latin typeface="Arial"/>
              </a:rPr>
              <a:t> می باش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D03-895F-47C3-8F20-51369F2CB8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800" spc="-1" strike="noStrike">
                <a:solidFill>
                  <a:srgbClr val="e3e3ff"/>
                </a:solidFill>
                <a:latin typeface="Arial"/>
                <a:cs typeface="B Mitra"/>
              </a:rPr>
              <a:t>شرایط بهداشتی تولید ، نگهداری  و حمل علوفه</a:t>
            </a:r>
            <a:endParaRPr b="0" lang="en-US" sz="3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876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ffffff"/>
                </a:solidFill>
                <a:latin typeface="Arial"/>
                <a:cs typeface="B Mitra"/>
              </a:rPr>
              <a:t>باقیمانده سموم دفع آفات نباتی از دیگر مخاطراتی است که می تواند از طریق تغذیه دام با علوفه وارد بدن گردد . اگرچه اطلاعات آماری دقیقی در خصوص میزان انتقال این مواد از طریق شیر و یا دیگر محصولات دامی در دست نیست ولی همواره به عنوان یک از مخاطرات زیست محیطی مورد توجه می باشد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FBA-595B-430F-8936-A64A9ABAA8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3e3ff"/>
                </a:solidFill>
                <a:latin typeface="Arial"/>
                <a:cs typeface="B Nazanin"/>
              </a:rPr>
              <a:t>بيماريهاي مشترك بين انسان و حيوان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B Nazanin"/>
              </a:rPr>
              <a:t>بيماريهاي مشترك بين انسان و حيوان بخش بزرگي از بيماريهاي موجود در جامعه انساني و دامي كشور اس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Nazanin"/>
              </a:rPr>
              <a:t> بيماري تب مالت ( بروسلوز)  جزء اولويتهاي اول اين دسته از بيماريها مي باش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Nazanin"/>
              </a:rPr>
              <a:t> با توجه به خسارات سنگيني كه اين بيماري چه از لحاظ انساني وچه از لحاظ دامي در پي دارد و از سويي با توجه به طولاني بودن سير بيماري و درمان آن و عوارض ناشي از آن و همچنين خسارات سنگين اقتصادي كه بر سيستم اقتصادي به جاي مي گذارد و همچنين از كارافتادگي انساني آن نياز به توجه خاص دارد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4526-60F8-4FA5-BE34-3BB4451ECD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3e3ff"/>
                </a:solidFill>
                <a:latin typeface="Arial"/>
                <a:cs typeface="B Nazanin"/>
              </a:rPr>
              <a:t>روند بیماری بروسلو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B Nazanin"/>
              </a:rPr>
              <a:t>آمار بروسلوز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Nazanin"/>
              </a:rPr>
              <a:t>در سالهایاخیر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B Nazanin"/>
              </a:rPr>
              <a:t> یک سیر نزولی داشته است که به نظر می رسد افزایش پوشش واکسیناسیون دامها و ذبح دام بصورت بهداشتی و اطلاع رسانی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Nazanin"/>
              </a:rPr>
              <a:t> در ای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B Nazanin"/>
              </a:rPr>
              <a:t>زمینه مؤثر بوده اس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B Nazanin"/>
              </a:rPr>
              <a:t> علی رغم تلاشهای وسیع در مبارزه با این بیماری و کاهش چشمگیر بروز آن در طی این سالها ، هنوز به عنوان یک بیماری عفونی با شیوع بالا مطرح است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Nazani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B Nazanin"/>
              </a:rPr>
              <a:t>و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Nazanin"/>
              </a:rPr>
              <a:t>نیاز به همکاری مشترک سازمان دامپزشکی، وزارت جهاد کشاورزی و وزارت بهداشت اس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0EF-789D-4F0F-84DF-FCFAF0BCC3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800" spc="-1" strike="noStrike">
                <a:solidFill>
                  <a:srgbClr val="e3e3ff"/>
                </a:solidFill>
                <a:latin typeface="Arial"/>
                <a:cs typeface="B Mitra"/>
              </a:rPr>
              <a:t>چالش های  جمع آوری شیر :</a:t>
            </a:r>
            <a:r>
              <a:rPr b="0" lang="fa-IR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 rtl="1">
              <a:lnSpc>
                <a:spcPct val="11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ffffff"/>
                </a:solidFill>
                <a:latin typeface="Arial"/>
                <a:cs typeface="B Mitra"/>
              </a:rPr>
              <a:t>پراکندگی دامداران سنتی و کم بودن دامداری های صنعتی ( در حال حاضر </a:t>
            </a:r>
            <a:r>
              <a:rPr b="0" lang="fa-IR" sz="3000" spc="-1" strike="noStrike">
                <a:solidFill>
                  <a:srgbClr val="ffffff"/>
                </a:solidFill>
                <a:latin typeface="Arial"/>
                <a:ea typeface="B Mitra"/>
              </a:rPr>
              <a:t>60</a:t>
            </a:r>
            <a:r>
              <a:rPr b="0" lang="fa-IR" sz="3000" spc="-1" strike="noStrike">
                <a:solidFill>
                  <a:srgbClr val="ffffff"/>
                </a:solidFill>
                <a:latin typeface="Arial"/>
                <a:ea typeface="B Mitra"/>
              </a:rPr>
              <a:t>% شیر خام از دامداریهای سنتی جمع آوری میشود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lnSpc>
                <a:spcPct val="11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ffffff"/>
                </a:solidFill>
                <a:latin typeface="Arial"/>
                <a:cs typeface="B Mitra"/>
              </a:rPr>
              <a:t>معطل شدن شیر در منزل دامدار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lnSpc>
                <a:spcPct val="11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ffffff"/>
                </a:solidFill>
                <a:latin typeface="Arial"/>
                <a:cs typeface="B Mitra"/>
              </a:rPr>
              <a:t>استفاده از تانکرها و ظروف حمل نا مناسب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lnSpc>
                <a:spcPct val="11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ffffff"/>
                </a:solidFill>
                <a:latin typeface="Arial"/>
                <a:cs typeface="B Mitra"/>
              </a:rPr>
              <a:t>عدم رعایت اصول صحیح شستشو ظروف و تانکر حمل شی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lnSpc>
                <a:spcPct val="11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ffffff"/>
                </a:solidFill>
                <a:latin typeface="Arial"/>
                <a:cs typeface="B Mitra"/>
              </a:rPr>
              <a:t>نداشتن وسایل برودتی لازم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lnSpc>
                <a:spcPct val="11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ffffff"/>
                </a:solidFill>
                <a:latin typeface="Arial"/>
                <a:cs typeface="B Mitra"/>
              </a:rPr>
              <a:t>اختلاط شیر دامدارا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130-0AF4-4132-84ED-A4BDA48E59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800" spc="-1" strike="noStrike">
                <a:solidFill>
                  <a:srgbClr val="e3e3ff"/>
                </a:solidFill>
                <a:latin typeface="Arial"/>
                <a:cs typeface="B Mitra"/>
              </a:rPr>
              <a:t>بهداشت شیر در کارخانه</a:t>
            </a:r>
            <a:endParaRPr b="0" lang="en-US" sz="3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 rtl="1">
              <a:lnSpc>
                <a:spcPct val="90000"/>
              </a:lnSpc>
              <a:spcBef>
                <a:spcPts val="8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ffffff"/>
                </a:solidFill>
                <a:latin typeface="Arial"/>
                <a:cs typeface="B Mitra"/>
              </a:rPr>
              <a:t>کنترل مستمر کیفیت شیر خام و استفاده از تمهیدات لازم جهت تشویق دامداران برای تولید شیر سالم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lnSpc>
                <a:spcPct val="90000"/>
              </a:lnSpc>
              <a:spcBef>
                <a:spcPts val="8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ffffff"/>
                </a:solidFill>
                <a:latin typeface="Arial"/>
                <a:cs typeface="B Mitra"/>
              </a:rPr>
              <a:t>نظارت مستمر بر روی فعالیتهای اصلی که منجر به حذف مخاطرات محیطی (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B Mitra"/>
              </a:rPr>
              <a:t>GMP</a:t>
            </a:r>
            <a:r>
              <a:rPr b="0" lang="fa-IR" sz="3400" spc="-1" strike="noStrike">
                <a:solidFill>
                  <a:srgbClr val="ffffff"/>
                </a:solidFill>
                <a:latin typeface="Arial"/>
                <a:ea typeface="B Mitra"/>
              </a:rPr>
              <a:t>) و مخاطرات حین فرایند تولید (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B Mitra"/>
              </a:rPr>
              <a:t>HACCP</a:t>
            </a:r>
            <a:r>
              <a:rPr b="0" lang="fa-IR" sz="3400" spc="-1" strike="noStrike">
                <a:solidFill>
                  <a:srgbClr val="ffffff"/>
                </a:solidFill>
                <a:latin typeface="Arial"/>
                <a:ea typeface="B Mitra"/>
              </a:rPr>
              <a:t>) میگردد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lnSpc>
                <a:spcPct val="90000"/>
              </a:lnSpc>
              <a:spcBef>
                <a:spcPts val="8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ffffff"/>
                </a:solidFill>
                <a:latin typeface="Arial"/>
                <a:cs typeface="B Mitra"/>
              </a:rPr>
              <a:t>آموزش مستمر کارکنان و مسئولین حمل ونقل در خصوص عواملی که موجب افزایش بار میکروبی در فراورده نهایی میشود. و نظارت بر عملکرد آنها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1AD-99EE-4557-95FC-746C4AD92D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800" spc="-1" strike="noStrike">
                <a:solidFill>
                  <a:srgbClr val="e3e3ff"/>
                </a:solidFill>
                <a:latin typeface="Arial"/>
                <a:cs typeface="B Titr"/>
              </a:rPr>
              <a:t>بهداشت شیر در سطح عرضه و مصرف</a:t>
            </a:r>
            <a:endParaRPr b="0" lang="en-US" sz="3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B Mitra"/>
              </a:rPr>
              <a:t>کنترل مستمر مراکز فروش توسط بهداشت محیط و جلوگیری از توزیع شیر در مراکزی که فاقد امکانات لازم می باشند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B Mitra"/>
              </a:rPr>
              <a:t>توزیع شیر استریلیزه برای مراکزی که در مسافت های دور قرار گرفته اند و یا شرایط نگهداری شیر پاستوریزه را ندارند . ( بویژه آموزش و پرورش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B Mitra"/>
              </a:rPr>
              <a:t>نظارت بیشتر ومستمر سازمان بازرگانی بر روی مراکز فروش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B Mitra"/>
              </a:rPr>
              <a:t>الزامی نمودن مجوز جهت وسایل حمل شیر از ایستگاه های تحویل شیر به کارخانه و پش بینی ترموگراف برای اینگونه وسای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BE63-7918-42F9-A44F-B49DD57B18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77384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fa-IR" sz="5400" spc="-1" strike="noStrike">
                <a:solidFill>
                  <a:srgbClr val="ffffff"/>
                </a:solidFill>
                <a:latin typeface="Arial"/>
              </a:rPr>
              <a:t> سلامت شير از توليد تا مصرف و اهميت تغذيه ای آن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A40F2-75B3-4D95-9508-8E4897892E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3" descr=""/>
          <p:cNvPicPr/>
          <p:nvPr/>
        </p:nvPicPr>
        <p:blipFill>
          <a:blip r:embed="rId1"/>
          <a:stretch/>
        </p:blipFill>
        <p:spPr>
          <a:xfrm>
            <a:off x="731880" y="201600"/>
            <a:ext cx="7527960" cy="1157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D:\Beheshti\My Pictures\Picture15.jpg"/>
          <p:cNvPicPr/>
          <p:nvPr/>
        </p:nvPicPr>
        <p:blipFill>
          <a:blip r:embed="rId2"/>
          <a:stretch/>
        </p:blipFill>
        <p:spPr>
          <a:xfrm>
            <a:off x="714240" y="1428840"/>
            <a:ext cx="7786800" cy="466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88D0-BC3B-43E4-A07C-13E5A3620D96}" type="slidenum">
              <a:t>20</a:t>
            </a:fld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3e3ff"/>
                </a:solidFill>
                <a:latin typeface="Arial"/>
              </a:rPr>
              <a:t>شیر یک ماده غذایی ارزشمند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004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تقريبا تمامي مواد لازم براي رشد و ادامه زندگي انسان را دارا اس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از مهمترين منابع پروتئين حيوان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  نقش بسيار مهمي را در تامين كلسيم، فسفر، پروتيين و ويتامين هاي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 دارند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نقش شیردر سلامت استخوان ها وبهبود ضعيت رش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 دركاهش خطر بيماري هاي مزمن نظير استئوپروز، فشار خون و انواع سرطان ها نقش دارد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37F-516E-4F94-A227-E1D9D491B0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3e3ff"/>
                </a:solidFill>
                <a:latin typeface="Arial"/>
              </a:rPr>
              <a:t>مصرف سرانه شير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توليد شير كشور از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6316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 هزار تن در سال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1382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به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9556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 هزار تن در سال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1388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 افزايش يافته است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 با اين وجود ميزان مصرف سرانه مواد لبني در كشورمان (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 كيلوگرم) در مقايسه با مصرف سرانه جهاني(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155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 كيلوگرم) اختلاف قابل توجهي دا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 بر اساس آخرين يافته هاي علمي در بررسي ارزش غذايي شير و فرآورده هاي آن، مصرف ساليانه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 کیلوگرم از اين ماده ارزشمند را توصيه مي كنن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A5B-B172-45CD-81AE-9BC19B65CC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120680" y="-244800"/>
            <a:ext cx="6948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  <a:cs typeface="Nazanin"/>
              </a:rPr>
              <a:t>سهم گروه شير و فرآورده هاي آن در سبد غذايي خانوارهاي ايران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  <a:ea typeface="Nazanin"/>
              </a:rPr>
              <a:t> به تفكيك شهر و روستا و كل كشور </a:t>
            </a:r>
            <a:r>
              <a:rPr b="1" lang="fa-IR" sz="1000" spc="-1" strike="noStrike">
                <a:solidFill>
                  <a:srgbClr val="ffffff"/>
                </a:solidFill>
                <a:latin typeface="Arial"/>
                <a:ea typeface="Nazanin"/>
              </a:rPr>
              <a:t>(اسماعيلی انستيتو تغذِيه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4200" y="857160"/>
          <a:ext cx="8496360" cy="5527800"/>
        </p:xfrm>
        <a:graphic>
          <a:graphicData uri="http://schemas.openxmlformats.org/drawingml/2006/table">
            <a:tbl>
              <a:tblPr/>
              <a:tblGrid>
                <a:gridCol w="887400"/>
                <a:gridCol w="1441440"/>
                <a:gridCol w="1109880"/>
                <a:gridCol w="1552320"/>
                <a:gridCol w="903600"/>
                <a:gridCol w="1301760"/>
                <a:gridCol w="1299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Nazanin"/>
                        </a:rPr>
                        <a:t>درص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Nazanin"/>
                        </a:rPr>
                        <a:t>روستا (گرم/نفر/رو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Nazanin"/>
                        </a:rPr>
                        <a:t>درص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Nazanin"/>
                        </a:rPr>
                        <a:t>شهر (گرم/نفر/رو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Nazanin"/>
                        </a:rPr>
                        <a:t>درص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Nazanin"/>
                        </a:rPr>
                        <a:t>ك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(گرم/نفر/رو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5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41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4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Nazanin"/>
                        </a:rPr>
                        <a:t>غل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40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5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4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Nazanin"/>
                        </a:rPr>
                        <a:t>ميوه و سبزي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66ff66"/>
                          </a:solidFill>
                          <a:latin typeface="Times New Roman"/>
                          <a:ea typeface="Nazanin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66ff66"/>
                          </a:solidFill>
                          <a:latin typeface="Times New Roman"/>
                          <a:ea typeface="Nazanin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66ff66"/>
                          </a:solidFill>
                          <a:latin typeface="Times New Roman"/>
                          <a:ea typeface="Nazanin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66ff66"/>
                          </a:solidFill>
                          <a:latin typeface="Times New Roman"/>
                          <a:ea typeface="Nazanin"/>
                        </a:rPr>
                        <a:t>1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66ff66"/>
                          </a:solidFill>
                          <a:latin typeface="Times New Roman"/>
                          <a:ea typeface="Nazanin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66ff66"/>
                          </a:solidFill>
                          <a:latin typeface="Times New Roman"/>
                          <a:ea typeface="Nazanin"/>
                        </a:rPr>
                        <a:t>1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66ff66"/>
                          </a:solidFill>
                          <a:latin typeface="Times New Roman"/>
                          <a:cs typeface="Nazanin"/>
                        </a:rPr>
                        <a:t>شير و لبني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1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1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12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Nazanin"/>
                        </a:rPr>
                        <a:t>گوشت و تخم مرغ و حبوب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1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1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1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1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1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Nazanin"/>
                        </a:rPr>
                        <a:t>ساير (قندها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Nazanin"/>
                        </a:rPr>
                        <a:t>چربي ها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13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13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Nazanin"/>
                        </a:rPr>
                        <a:t>14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Nazanin"/>
                        </a:rPr>
                        <a:t>ك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A66-7A58-4210-93B3-E80C734FAD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3e3ff"/>
                </a:solidFill>
                <a:latin typeface="Arial"/>
              </a:rPr>
              <a:t>مصرف سرانه شير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سهم شير و فرآورده هاي آن در سبد خانوارهاي ايراني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 درصد است و اين سهم در مناطــق شهري و روستايي مشابه است و بعد از نان و غلات، ميوه و سبزي در رتبه سوم قرار دارد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درصد سهم شیر ولبنیات در دریافت کلسیم ریبوفلاوین و ویتامین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 در کشوربترتیب عبارتست از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32،28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و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 درصد میباش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640-ED6D-4A35-9237-0F21F0A6FE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04"/>
          <p:cNvPicPr/>
          <p:nvPr/>
        </p:nvPicPr>
        <p:blipFill>
          <a:blip r:embed="rId1"/>
          <a:stretch/>
        </p:blipFill>
        <p:spPr>
          <a:xfrm>
            <a:off x="-785880" y="0"/>
            <a:ext cx="10287000" cy="714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3411-365D-4D90-9E18-B263A6A21F5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Chart 2" descr=""/>
          <p:cNvPicPr/>
          <p:nvPr/>
        </p:nvPicPr>
        <p:blipFill>
          <a:blip r:embed="rId1"/>
          <a:stretch/>
        </p:blipFill>
        <p:spPr>
          <a:xfrm>
            <a:off x="5224320" y="835200"/>
            <a:ext cx="3438720" cy="5797440"/>
          </a:xfrm>
          <a:prstGeom prst="rect">
            <a:avLst/>
          </a:prstGeom>
          <a:ln w="0">
            <a:noFill/>
          </a:ln>
        </p:spPr>
      </p:pic>
      <p:pic>
        <p:nvPicPr>
          <p:cNvPr id="143" name="Chart 4" descr=""/>
          <p:cNvPicPr/>
          <p:nvPr/>
        </p:nvPicPr>
        <p:blipFill>
          <a:blip r:embed="rId2"/>
          <a:stretch/>
        </p:blipFill>
        <p:spPr>
          <a:xfrm>
            <a:off x="684360" y="487440"/>
            <a:ext cx="3657600" cy="63705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"/>
          <p:cNvSpPr/>
          <p:nvPr/>
        </p:nvSpPr>
        <p:spPr>
          <a:xfrm>
            <a:off x="928800" y="642960"/>
            <a:ext cx="38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Perpetua"/>
                <a:cs typeface="Times New Roman"/>
              </a:rPr>
              <a:t>مقایسه میانگین کلسیم دریافتی و کلسیم مورد نیاز کل کشو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5715000" y="642960"/>
            <a:ext cx="29289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Perpetua"/>
                <a:cs typeface="Times New Roman"/>
              </a:rPr>
              <a:t>درصد سهم شیر و ماست در تامین </a:t>
            </a:r>
            <a:r>
              <a:rPr b="1" lang="fa-IR" sz="2400" spc="-1" strike="noStrike">
                <a:solidFill>
                  <a:srgbClr val="ffffff"/>
                </a:solidFill>
                <a:latin typeface="Perpetua"/>
                <a:cs typeface="Times New Roman"/>
              </a:rPr>
              <a:t>کلسیم</a:t>
            </a:r>
            <a:r>
              <a:rPr b="1" lang="fa-IR" sz="2000" spc="-1" strike="noStrike">
                <a:solidFill>
                  <a:srgbClr val="ffffff"/>
                </a:solidFill>
                <a:latin typeface="Perpetua"/>
                <a:ea typeface="Times New Roman"/>
              </a:rPr>
              <a:t> مورد نیا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 rot="16200000">
            <a:off x="-327240" y="33454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</a:rPr>
              <a:t>میلیگرم در رو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 rot="16200000">
            <a:off x="4696920" y="33393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Perpetua"/>
                <a:cs typeface="Times New Roman"/>
              </a:rPr>
              <a:t>درصد</a:t>
            </a:r>
            <a:r>
              <a:rPr b="0" lang="fa-IR" sz="2000" spc="-1" strike="noStrike">
                <a:solidFill>
                  <a:srgbClr val="ffffff"/>
                </a:solidFill>
                <a:latin typeface="Perpetu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4BA-CF7F-4F81-852C-972CD0EAFF0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e3e3ff"/>
                </a:solidFill>
                <a:latin typeface="Arial"/>
              </a:rPr>
              <a:t>عوارض ناشی از کمبود دریافت شیر و فرآوردهای آن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15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itra"/>
              </a:rPr>
              <a:t>آخرين بررسى مصرف مواد غذايى </a:t>
            </a:r>
            <a:r>
              <a:rPr b="1" lang="fa-IR" sz="2800" spc="-1" strike="noStrike">
                <a:solidFill>
                  <a:srgbClr val="ffffff"/>
                </a:solidFill>
                <a:latin typeface="Arial"/>
                <a:cs typeface="Mitra"/>
              </a:rPr>
              <a:t>كشوري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itra"/>
              </a:rPr>
              <a:t>كه توسط انستيتو تحقيقات تغذيه‏اى كشور، در سال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Mitra"/>
              </a:rPr>
              <a:t>1380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itra"/>
              </a:rPr>
              <a:t>، انجام شده، بيانگر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itra"/>
              </a:rPr>
              <a:t>كمبود دريافت كلسيم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  <a:ea typeface="Mitr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itra"/>
              </a:rPr>
              <a:t>در حدود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Mitra"/>
              </a:rPr>
              <a:t>90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Mitra"/>
              </a:rPr>
              <a:t>% خانوارهاى كشور اس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Arial"/>
                <a:ea typeface="Mitra"/>
              </a:rPr>
              <a:t> 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Mitra"/>
              </a:rPr>
              <a:t>با توجه پايين بودن ميزا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Mitra"/>
              </a:rPr>
              <a:t>    مصرف  شير و لبنيات خط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Mitra"/>
              </a:rPr>
              <a:t>    بروز بيمارِِيها های ناشی ا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Mitra"/>
              </a:rPr>
              <a:t>   کمبود کلسيم مانند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پوك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ستخوان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Mitra"/>
              </a:rPr>
              <a:t>افزاِيش مي ياب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8" descr="timer"/>
          <p:cNvPicPr/>
          <p:nvPr/>
        </p:nvPicPr>
        <p:blipFill>
          <a:blip r:embed="rId1"/>
          <a:stretch/>
        </p:blipFill>
        <p:spPr>
          <a:xfrm>
            <a:off x="428760" y="3571920"/>
            <a:ext cx="3929040" cy="32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79CB-7782-413A-98E5-652951DB56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12:28:40Z</dcterms:created>
  <dc:creator>k_samadpour</dc:creator>
  <dc:description/>
  <dc:language>en-US</dc:language>
  <cp:lastModifiedBy>MRT</cp:lastModifiedBy>
  <dcterms:modified xsi:type="dcterms:W3CDTF">2013-07-01T05:22:10Z</dcterms:modified>
  <cp:revision>13</cp:revision>
  <dc:subject/>
  <dc:title>به نام خدا  سمينار سلامت شير از توليد تا مصرف و اهميت تغذيه ای آن</dc:title>
</cp:coreProperties>
</file>